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18.wmf" ContentType="image/x-wmf"/>
  <Override PartName="/ppt/media/image20.wmf" ContentType="image/x-wmf"/>
  <Override PartName="/ppt/media/image34.jpeg" ContentType="image/jpe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0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D445B13-44DE-4FD2-9B16-66DA025F23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55CCBB7-FAF1-4F69-BFA3-538310ACE845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687920"/>
            <a:ext cx="54388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82C4438-8F8F-45C0-B526-13E0C4BC9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75C510D-61C1-4DC4-B7FE-8A901B85AB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1C917AF-39FC-4982-BB8A-B2475E5E38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E6B5CF7-AE3A-4DB0-9A2D-82C092D6BB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6598BE2-A5C3-4E64-B4CD-0C1C4B077D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CE0ECE3-13FC-4AD0-B999-CC677A2689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561C373-044E-4E88-B9E1-8DE97AA3DD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CEED1DA-C8FC-4185-A0CC-BBB1ADCAF0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24771DA-72D0-43A0-8525-948241F2C4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D177C6D-DA2D-4731-9A79-7707D23B4F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216E-B2BC-4A80-A488-0A13018C764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861C079-AF7F-421A-8163-C6C2E7FE35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A5AF645-E25B-4890-8CDD-4F2FDE4760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A3DA9E2-3AE8-4106-B0C7-7584C155DA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C1942C7-D952-498B-8FF7-9D9B91512A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2F2505D-9DD8-406C-A02D-7F3A230D47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 Schlussfolgerungsrelation ist gleichzusetzen mit der Semant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leitung: bei endlich vielen Sätzen kann man die Schlussfolgerungsrelation explizit ange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unendlich vielen nicht; dann muss sie anders definiert werden. FALSCHE ARGUMENTAT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400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952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8848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400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952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03A2-3CAB-4945-BBCB-347AFD00C7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194F-7ADF-406A-8038-96176AD3B4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738A-AC66-45F3-84CA-AD0E9AE156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C924-3567-49EC-8AD5-F2822E49DB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01FA4-FBD9-431E-8F43-08024EE3E4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4388-71E3-4A27-8788-D49654704B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62D5-9EA6-4B26-88B5-A2DD11B433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C4A5-ECDB-4FF7-A875-5FB6508AD1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5731-6890-452C-B33B-C1AEE83A37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F0D1-E618-48FD-A567-1C7D41C558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582E0-5D15-40A1-9D25-AB843F1927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5400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1952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8848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5400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1952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048C-A27C-4440-9B1F-6D425D5333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93520" y="3535200"/>
            <a:ext cx="7358040" cy="795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520" indent="-925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92520" indent="-925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92520" indent="-925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93520" y="1152000"/>
            <a:ext cx="7358040" cy="23209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4062240" y="0"/>
            <a:ext cx="1019520" cy="8683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5081760" y="0"/>
            <a:ext cx="4062240" cy="866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1440" y="1440"/>
            <a:ext cx="4073400" cy="865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8772480" y="5383080"/>
            <a:ext cx="320760" cy="14209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223920" y="630360"/>
            <a:ext cx="868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www.semantic-web-grundlagen.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-76320" y="1295280"/>
            <a:ext cx="1206720" cy="355680"/>
          </a:xfrm>
          <a:prstGeom prst="rect">
            <a:avLst/>
          </a:prstGeom>
          <a:ln w="0">
            <a:noFill/>
          </a:ln>
        </p:spPr>
      </p:pic>
      <p:grpSp>
        <p:nvGrpSpPr>
          <p:cNvPr id="46" name="Gruppierung 17"/>
          <p:cNvGrpSpPr/>
          <p:nvPr/>
        </p:nvGrpSpPr>
        <p:grpSpPr>
          <a:xfrm>
            <a:off x="-12600" y="-63360"/>
            <a:ext cx="9156600" cy="1358640"/>
            <a:chOff x="-12600" y="-63360"/>
            <a:chExt cx="9156600" cy="1358640"/>
          </a:xfrm>
        </p:grpSpPr>
        <p:sp>
          <p:nvSpPr>
            <p:cNvPr id="47" name="Rectangle 3"/>
            <p:cNvSpPr/>
            <p:nvPr/>
          </p:nvSpPr>
          <p:spPr>
            <a:xfrm>
              <a:off x="-12600" y="1249560"/>
              <a:ext cx="9156600" cy="45720"/>
            </a:xfrm>
            <a:prstGeom prst="rect">
              <a:avLst/>
            </a:prstGeom>
            <a:gradFill rotWithShape="0">
              <a:gsLst>
                <a:gs pos="0">
                  <a:srgbClr val="fcfefe"/>
                </a:gs>
                <a:gs pos="100000">
                  <a:srgbClr val="de332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3"/>
            <a:stretch/>
          </p:blipFill>
          <p:spPr>
            <a:xfrm>
              <a:off x="-2520" y="377280"/>
              <a:ext cx="1118520" cy="8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"/>
            <p:cNvPicPr/>
            <p:nvPr/>
          </p:nvPicPr>
          <p:blipFill>
            <a:blip r:embed="rId4"/>
            <a:srcRect l="0" t="0" r="0" b="89741"/>
            <a:stretch/>
          </p:blipFill>
          <p:spPr>
            <a:xfrm>
              <a:off x="-2520" y="-63360"/>
              <a:ext cx="1118520" cy="44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12674160" y="93978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71FC-CCAF-488A-9F53-E081BE7C625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penguins"/>
          <p:cNvPicPr/>
          <p:nvPr/>
        </p:nvPicPr>
        <p:blipFill>
          <a:blip r:embed="rId1"/>
          <a:stretch/>
        </p:blipFill>
        <p:spPr>
          <a:xfrm>
            <a:off x="1600200" y="660240"/>
            <a:ext cx="5486400" cy="553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9451F-51BB-458A-8DA0-55A32770CD1A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yntax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4040" y="15998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(von 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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sammenstellung, </a:t>
            </a: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atzba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schließt sich über die 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 „richtiger“ Satz? D.h. wie wird die Menge der Sätze einer Logik defini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tzung von „Erzeugungsregeln“ zur Definition (Konstruktion) von wohlgeformten Sätzen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539640" y="4549680"/>
            <a:ext cx="244656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1403280" y="469440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684360" y="527040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1692360" y="58467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1908000" y="52704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826920" y="591804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167280" y="4786200"/>
            <a:ext cx="37954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ntax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Wen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 sind, dann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1908000" y="52704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1692360" y="58467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467280" y="419112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elemen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7164360" y="548640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9"/>
          <p:cNvSpPr/>
          <p:nvPr/>
        </p:nvSpPr>
        <p:spPr>
          <a:xfrm>
            <a:off x="6300720" y="5229360"/>
            <a:ext cx="300240" cy="360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0"/>
          <p:cNvSpPr/>
          <p:nvPr/>
        </p:nvSpPr>
        <p:spPr>
          <a:xfrm flipH="1">
            <a:off x="5867280" y="5516640"/>
            <a:ext cx="433440" cy="617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3918960" y="6207120"/>
            <a:ext cx="29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onstrukto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unk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7004-44C9-4BCD-842E-52612495C0B8}" type="slidenum">
              <a:t>10</a:t>
            </a:fld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0.57864 0.03681 E">
                                      <p:cBhvr>
                                        <p:cTn id="228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68107 -0.04745 E">
                                      <p:cBhvr>
                                        <p:cTn id="230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0382 0.08703 -0.20764 0.17407 -0.31806 0.17407 C -0.42865 0.17407 -0.54635 0.08703 -0.66389 0 E">
                                      <p:cBhvr>
                                        <p:cTn id="244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Ausdrucksstärke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666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de-off: Logiken mit vielen Ausdrucksmitteln (Konstruktoren/Junktoren) s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fortabler in der Verwendung (verschiedene und komplexe Sachverhalte sind einfach auszudrücken), 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wieriger (meta)mathematisch zu handhaben (Beweisen von Eigenschaften der Logik umständlich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r Ausweg: Einschränkung der Sätze auf Teilmenge, die für jeden Satz der Logik einen logisch äquivalenten Vertreter enthält (vgl. Normalformen, minimale Junktorenmengen…) und Definition der anderen Sätze/Junktoren als „syntactic sugar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eine Logik über dieses Maß hinaus eingeschränkt, erhält man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ursprünglichen Logik mit geringer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usdrucksstärk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21F5-5D95-46F6-B77A-51C4F2E7EAE8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4264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37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195" name="Oval 19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3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20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1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2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3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5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6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7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8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9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0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36"/>
          <p:cNvGrpSpPr/>
          <p:nvPr/>
        </p:nvGrpSpPr>
        <p:grpSpPr>
          <a:xfrm>
            <a:off x="4932360" y="2205000"/>
            <a:ext cx="3672000" cy="4032360"/>
            <a:chOff x="4932360" y="2205000"/>
            <a:chExt cx="3672000" cy="4032360"/>
          </a:xfrm>
        </p:grpSpPr>
        <p:sp>
          <p:nvSpPr>
            <p:cNvPr id="208" name="Oval 6"/>
            <p:cNvSpPr/>
            <p:nvPr/>
          </p:nvSpPr>
          <p:spPr>
            <a:xfrm>
              <a:off x="4932360" y="2205000"/>
              <a:ext cx="367200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7"/>
            <p:cNvSpPr/>
            <p:nvPr/>
          </p:nvSpPr>
          <p:spPr>
            <a:xfrm>
              <a:off x="5724360" y="5157720"/>
              <a:ext cx="93672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8"/>
            <p:cNvSpPr/>
            <p:nvPr/>
          </p:nvSpPr>
          <p:spPr>
            <a:xfrm>
              <a:off x="7380360" y="371808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ro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9"/>
            <p:cNvSpPr/>
            <p:nvPr/>
          </p:nvSpPr>
          <p:spPr>
            <a:xfrm>
              <a:off x="6084720" y="3141720"/>
              <a:ext cx="1081080" cy="5047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0"/>
            <p:cNvSpPr/>
            <p:nvPr/>
          </p:nvSpPr>
          <p:spPr>
            <a:xfrm>
              <a:off x="6229440" y="2492280"/>
              <a:ext cx="93636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1"/>
            <p:cNvSpPr/>
            <p:nvPr/>
          </p:nvSpPr>
          <p:spPr>
            <a:xfrm>
              <a:off x="5365800" y="4365720"/>
              <a:ext cx="144144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hell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2"/>
            <p:cNvSpPr/>
            <p:nvPr/>
          </p:nvSpPr>
          <p:spPr>
            <a:xfrm>
              <a:off x="7667640" y="450864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el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3"/>
            <p:cNvSpPr/>
            <p:nvPr/>
          </p:nvSpPr>
          <p:spPr>
            <a:xfrm>
              <a:off x="5724360" y="3718080"/>
              <a:ext cx="165600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-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4"/>
            <p:cNvSpPr/>
            <p:nvPr/>
          </p:nvSpPr>
          <p:spPr>
            <a:xfrm>
              <a:off x="6805440" y="5300640"/>
              <a:ext cx="115128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ifti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3"/>
            <p:cNvSpPr/>
            <p:nvPr/>
          </p:nvSpPr>
          <p:spPr>
            <a:xfrm>
              <a:off x="7382520" y="22766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Arial"/>
                </a:rPr>
                <a:t>Sätz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35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4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40"/>
          <p:cNvGrpSpPr/>
          <p:nvPr/>
        </p:nvGrpSpPr>
        <p:grpSpPr>
          <a:xfrm>
            <a:off x="3779640" y="2781360"/>
            <a:ext cx="2305080" cy="952200"/>
            <a:chOff x="3779640" y="2781360"/>
            <a:chExt cx="2305080" cy="952200"/>
          </a:xfrm>
        </p:grpSpPr>
        <p:grpSp>
          <p:nvGrpSpPr>
            <p:cNvPr id="221" name="Group 38"/>
            <p:cNvGrpSpPr/>
            <p:nvPr/>
          </p:nvGrpSpPr>
          <p:grpSpPr>
            <a:xfrm>
              <a:off x="3924360" y="3070080"/>
              <a:ext cx="2160360" cy="663480"/>
              <a:chOff x="3924360" y="3070080"/>
              <a:chExt cx="2160360" cy="663480"/>
            </a:xfrm>
          </p:grpSpPr>
          <p:sp>
            <p:nvSpPr>
              <p:cNvPr id="222" name="AutoShape 15"/>
              <p:cNvSpPr/>
              <p:nvPr/>
            </p:nvSpPr>
            <p:spPr>
              <a:xfrm>
                <a:off x="3924360" y="3070080"/>
                <a:ext cx="2160360" cy="648000"/>
              </a:xfrm>
              <a:prstGeom prst="rightArrow">
                <a:avLst>
                  <a:gd name="adj1" fmla="val 50000"/>
                  <a:gd name="adj2" fmla="val 8334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17"/>
              <p:cNvSpPr/>
              <p:nvPr/>
            </p:nvSpPr>
            <p:spPr>
              <a:xfrm>
                <a:off x="4612680" y="32130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39"/>
            <p:cNvSpPr/>
            <p:nvPr/>
          </p:nvSpPr>
          <p:spPr>
            <a:xfrm>
              <a:off x="3779640" y="2781360"/>
              <a:ext cx="187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st </a:t>
              </a:r>
              <a:r>
                <a:rPr b="1" lang="de-DE" sz="2000" spc="-1" strike="noStrike">
                  <a:solidFill>
                    <a:srgbClr val="006600"/>
                  </a:solidFill>
                  <a:latin typeface="Arial"/>
                </a:rPr>
                <a:t>Modell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v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6CD4-4ECF-4141-96FF-8862D61E14F4}" type="slidenum">
              <a:t>12</a:t>
            </a:fld>
          </a:p>
        </p:txBody>
      </p:sp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30284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ed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gemeingülti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utologi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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239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30"/>
          <p:cNvGrpSpPr/>
          <p:nvPr/>
        </p:nvGrpSpPr>
        <p:grpSpPr>
          <a:xfrm>
            <a:off x="2993400" y="2314800"/>
            <a:ext cx="3442320" cy="1381320"/>
            <a:chOff x="2993400" y="2314800"/>
            <a:chExt cx="3442320" cy="1381320"/>
          </a:xfrm>
        </p:grpSpPr>
        <p:grpSp>
          <p:nvGrpSpPr>
            <p:cNvPr id="254" name="Group 31"/>
            <p:cNvGrpSpPr/>
            <p:nvPr/>
          </p:nvGrpSpPr>
          <p:grpSpPr>
            <a:xfrm>
              <a:off x="3267360" y="2314800"/>
              <a:ext cx="3168360" cy="1381320"/>
              <a:chOff x="3267360" y="2314800"/>
              <a:chExt cx="3168360" cy="1381320"/>
            </a:xfrm>
          </p:grpSpPr>
          <p:sp>
            <p:nvSpPr>
              <p:cNvPr id="255" name="AutoShape 32"/>
              <p:cNvSpPr/>
              <p:nvPr/>
            </p:nvSpPr>
            <p:spPr>
              <a:xfrm rot="20757600">
                <a:off x="3299400" y="2681640"/>
                <a:ext cx="3103920" cy="647640"/>
              </a:xfrm>
              <a:prstGeom prst="rightArrow">
                <a:avLst>
                  <a:gd name="adj1" fmla="val 50000"/>
                  <a:gd name="adj2" fmla="val 11981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33"/>
              <p:cNvSpPr/>
              <p:nvPr/>
            </p:nvSpPr>
            <p:spPr>
              <a:xfrm rot="20757600">
                <a:off x="4297320" y="2924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 Box 34"/>
            <p:cNvSpPr/>
            <p:nvPr/>
          </p:nvSpPr>
          <p:spPr>
            <a:xfrm rot="20757600">
              <a:off x="3038760" y="28087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5"/>
          <p:cNvGrpSpPr/>
          <p:nvPr/>
        </p:nvGrpSpPr>
        <p:grpSpPr>
          <a:xfrm>
            <a:off x="3550320" y="2529000"/>
            <a:ext cx="3016440" cy="1981080"/>
            <a:chOff x="3550320" y="2529000"/>
            <a:chExt cx="3016440" cy="1981080"/>
          </a:xfrm>
        </p:grpSpPr>
        <p:grpSp>
          <p:nvGrpSpPr>
            <p:cNvPr id="259" name="Group 36"/>
            <p:cNvGrpSpPr/>
            <p:nvPr/>
          </p:nvGrpSpPr>
          <p:grpSpPr>
            <a:xfrm>
              <a:off x="3860280" y="2529000"/>
              <a:ext cx="2706480" cy="1981080"/>
              <a:chOff x="3860280" y="2529000"/>
              <a:chExt cx="2706480" cy="1981080"/>
            </a:xfrm>
          </p:grpSpPr>
          <p:sp>
            <p:nvSpPr>
              <p:cNvPr id="260" name="AutoShape 37"/>
              <p:cNvSpPr/>
              <p:nvPr/>
            </p:nvSpPr>
            <p:spPr>
              <a:xfrm rot="19740000">
                <a:off x="3829320" y="3195360"/>
                <a:ext cx="2768040" cy="648000"/>
              </a:xfrm>
              <a:prstGeom prst="rightArrow">
                <a:avLst>
                  <a:gd name="adj1" fmla="val 50000"/>
                  <a:gd name="adj2" fmla="val 1067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38"/>
              <p:cNvSpPr/>
              <p:nvPr/>
            </p:nvSpPr>
            <p:spPr>
              <a:xfrm rot="19740000">
                <a:off x="4786920" y="350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Text Box 39"/>
            <p:cNvSpPr/>
            <p:nvPr/>
          </p:nvSpPr>
          <p:spPr>
            <a:xfrm rot="19740000">
              <a:off x="3639240" y="3726360"/>
              <a:ext cx="182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40"/>
          <p:cNvGrpSpPr/>
          <p:nvPr/>
        </p:nvGrpSpPr>
        <p:grpSpPr>
          <a:xfrm>
            <a:off x="2843280" y="2060640"/>
            <a:ext cx="3456360" cy="952200"/>
            <a:chOff x="2843280" y="2060640"/>
            <a:chExt cx="3456360" cy="952200"/>
          </a:xfrm>
        </p:grpSpPr>
        <p:grpSp>
          <p:nvGrpSpPr>
            <p:cNvPr id="264" name="Group 41"/>
            <p:cNvGrpSpPr/>
            <p:nvPr/>
          </p:nvGrpSpPr>
          <p:grpSpPr>
            <a:xfrm>
              <a:off x="3059640" y="2349360"/>
              <a:ext cx="3240000" cy="663480"/>
              <a:chOff x="3059640" y="2349360"/>
              <a:chExt cx="3240000" cy="663480"/>
            </a:xfrm>
          </p:grpSpPr>
          <p:sp>
            <p:nvSpPr>
              <p:cNvPr id="265" name="AutoShape 42"/>
              <p:cNvSpPr/>
              <p:nvPr/>
            </p:nvSpPr>
            <p:spPr>
              <a:xfrm>
                <a:off x="3059640" y="2349360"/>
                <a:ext cx="3240000" cy="648000"/>
              </a:xfrm>
              <a:prstGeom prst="rightArrow">
                <a:avLst>
                  <a:gd name="adj1" fmla="val 50000"/>
                  <a:gd name="adj2" fmla="val 125000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43"/>
              <p:cNvSpPr/>
              <p:nvPr/>
            </p:nvSpPr>
            <p:spPr>
              <a:xfrm>
                <a:off x="4071960" y="2492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 Box 44"/>
            <p:cNvSpPr/>
            <p:nvPr/>
          </p:nvSpPr>
          <p:spPr>
            <a:xfrm>
              <a:off x="2843280" y="206064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45"/>
          <p:cNvGrpSpPr/>
          <p:nvPr/>
        </p:nvGrpSpPr>
        <p:grpSpPr>
          <a:xfrm>
            <a:off x="2482200" y="2565360"/>
            <a:ext cx="3957480" cy="2837520"/>
            <a:chOff x="2482200" y="2565360"/>
            <a:chExt cx="3957480" cy="2837520"/>
          </a:xfrm>
        </p:grpSpPr>
        <p:grpSp>
          <p:nvGrpSpPr>
            <p:cNvPr id="269" name="Group 46"/>
            <p:cNvGrpSpPr/>
            <p:nvPr/>
          </p:nvGrpSpPr>
          <p:grpSpPr>
            <a:xfrm>
              <a:off x="3097800" y="2565360"/>
              <a:ext cx="3341880" cy="2837520"/>
              <a:chOff x="3097800" y="2565360"/>
              <a:chExt cx="3341880" cy="2837520"/>
            </a:xfrm>
          </p:grpSpPr>
          <p:sp>
            <p:nvSpPr>
              <p:cNvPr id="270" name="AutoShape 47"/>
              <p:cNvSpPr/>
              <p:nvPr/>
            </p:nvSpPr>
            <p:spPr>
              <a:xfrm rot="19296000">
                <a:off x="2893320" y="3659760"/>
                <a:ext cx="3750480" cy="648000"/>
              </a:xfrm>
              <a:prstGeom prst="rightArrow">
                <a:avLst>
                  <a:gd name="adj1" fmla="val 50000"/>
                  <a:gd name="adj2" fmla="val 14469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48"/>
              <p:cNvSpPr/>
              <p:nvPr/>
            </p:nvSpPr>
            <p:spPr>
              <a:xfrm rot="19296000">
                <a:off x="4224960" y="412632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Text Box 49"/>
            <p:cNvSpPr/>
            <p:nvPr/>
          </p:nvSpPr>
          <p:spPr>
            <a:xfrm rot="19296000">
              <a:off x="2585520" y="45896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50"/>
          <p:cNvGrpSpPr/>
          <p:nvPr/>
        </p:nvGrpSpPr>
        <p:grpSpPr>
          <a:xfrm>
            <a:off x="2148480" y="2428920"/>
            <a:ext cx="4413960" cy="2384280"/>
            <a:chOff x="2148480" y="2428920"/>
            <a:chExt cx="4413960" cy="2384280"/>
          </a:xfrm>
        </p:grpSpPr>
        <p:grpSp>
          <p:nvGrpSpPr>
            <p:cNvPr id="274" name="Group 51"/>
            <p:cNvGrpSpPr/>
            <p:nvPr/>
          </p:nvGrpSpPr>
          <p:grpSpPr>
            <a:xfrm>
              <a:off x="2530800" y="2428920"/>
              <a:ext cx="4031640" cy="2384280"/>
              <a:chOff x="2530800" y="2428920"/>
              <a:chExt cx="4031640" cy="2384280"/>
            </a:xfrm>
          </p:grpSpPr>
          <p:sp>
            <p:nvSpPr>
              <p:cNvPr id="275" name="AutoShape 52"/>
              <p:cNvSpPr/>
              <p:nvPr/>
            </p:nvSpPr>
            <p:spPr>
              <a:xfrm rot="20062200">
                <a:off x="2466000" y="3296880"/>
                <a:ext cx="4160880" cy="648000"/>
              </a:xfrm>
              <a:prstGeom prst="rightArrow">
                <a:avLst>
                  <a:gd name="adj1" fmla="val 50000"/>
                  <a:gd name="adj2" fmla="val 160528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3"/>
              <p:cNvSpPr/>
              <p:nvPr/>
            </p:nvSpPr>
            <p:spPr>
              <a:xfrm rot="20062200">
                <a:off x="3843720" y="37062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54"/>
            <p:cNvSpPr/>
            <p:nvPr/>
          </p:nvSpPr>
          <p:spPr>
            <a:xfrm rot="20062200">
              <a:off x="2225160" y="402372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55"/>
          <p:cNvGrpSpPr/>
          <p:nvPr/>
        </p:nvGrpSpPr>
        <p:grpSpPr>
          <a:xfrm>
            <a:off x="2176560" y="2243880"/>
            <a:ext cx="4266000" cy="1789560"/>
            <a:chOff x="2176560" y="2243880"/>
            <a:chExt cx="4266000" cy="1789560"/>
          </a:xfrm>
        </p:grpSpPr>
        <p:grpSp>
          <p:nvGrpSpPr>
            <p:cNvPr id="279" name="Group 56"/>
            <p:cNvGrpSpPr/>
            <p:nvPr/>
          </p:nvGrpSpPr>
          <p:grpSpPr>
            <a:xfrm>
              <a:off x="2515680" y="2243880"/>
              <a:ext cx="3926880" cy="1789560"/>
              <a:chOff x="2515680" y="2243880"/>
              <a:chExt cx="3926880" cy="1789560"/>
            </a:xfrm>
          </p:grpSpPr>
          <p:sp>
            <p:nvSpPr>
              <p:cNvPr id="280" name="AutoShape 57"/>
              <p:cNvSpPr/>
              <p:nvPr/>
            </p:nvSpPr>
            <p:spPr>
              <a:xfrm rot="20554800">
                <a:off x="2522880" y="2814480"/>
                <a:ext cx="3912480" cy="648000"/>
              </a:xfrm>
              <a:prstGeom prst="rightArrow">
                <a:avLst>
                  <a:gd name="adj1" fmla="val 50000"/>
                  <a:gd name="adj2" fmla="val 15094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58"/>
              <p:cNvSpPr/>
              <p:nvPr/>
            </p:nvSpPr>
            <p:spPr>
              <a:xfrm rot="20554800">
                <a:off x="3783240" y="31266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59"/>
            <p:cNvSpPr/>
            <p:nvPr/>
          </p:nvSpPr>
          <p:spPr>
            <a:xfrm rot="20554800">
              <a:off x="2231640" y="31806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60"/>
          <p:cNvGrpSpPr/>
          <p:nvPr/>
        </p:nvGrpSpPr>
        <p:grpSpPr>
          <a:xfrm>
            <a:off x="1575360" y="2420280"/>
            <a:ext cx="4926240" cy="3497400"/>
            <a:chOff x="1575360" y="2420280"/>
            <a:chExt cx="4926240" cy="3497400"/>
          </a:xfrm>
        </p:grpSpPr>
        <p:grpSp>
          <p:nvGrpSpPr>
            <p:cNvPr id="284" name="Group 61"/>
            <p:cNvGrpSpPr/>
            <p:nvPr/>
          </p:nvGrpSpPr>
          <p:grpSpPr>
            <a:xfrm>
              <a:off x="2028240" y="2420280"/>
              <a:ext cx="4473360" cy="3497400"/>
              <a:chOff x="2028240" y="2420280"/>
              <a:chExt cx="4473360" cy="3497400"/>
            </a:xfrm>
          </p:grpSpPr>
          <p:sp>
            <p:nvSpPr>
              <p:cNvPr id="285" name="AutoShape 62"/>
              <p:cNvSpPr/>
              <p:nvPr/>
            </p:nvSpPr>
            <p:spPr>
              <a:xfrm rot="19440000">
                <a:off x="1735560" y="3844800"/>
                <a:ext cx="5058360" cy="648000"/>
              </a:xfrm>
              <a:prstGeom prst="rightArrow">
                <a:avLst>
                  <a:gd name="adj1" fmla="val 50000"/>
                  <a:gd name="adj2" fmla="val 19515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63"/>
              <p:cNvSpPr/>
              <p:nvPr/>
            </p:nvSpPr>
            <p:spPr>
              <a:xfrm rot="19440000">
                <a:off x="3490200" y="4452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Text Box 64"/>
            <p:cNvSpPr/>
            <p:nvPr/>
          </p:nvSpPr>
          <p:spPr>
            <a:xfrm rot="19440000">
              <a:off x="1674000" y="5265360"/>
              <a:ext cx="185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65"/>
          <p:cNvGrpSpPr/>
          <p:nvPr/>
        </p:nvGrpSpPr>
        <p:grpSpPr>
          <a:xfrm>
            <a:off x="982440" y="2169720"/>
            <a:ext cx="5479920" cy="1568160"/>
            <a:chOff x="982440" y="2169720"/>
            <a:chExt cx="5479920" cy="1568160"/>
          </a:xfrm>
        </p:grpSpPr>
        <p:grpSp>
          <p:nvGrpSpPr>
            <p:cNvPr id="289" name="Group 66"/>
            <p:cNvGrpSpPr/>
            <p:nvPr/>
          </p:nvGrpSpPr>
          <p:grpSpPr>
            <a:xfrm>
              <a:off x="1372320" y="2169720"/>
              <a:ext cx="5090040" cy="1568160"/>
              <a:chOff x="1372320" y="2169720"/>
              <a:chExt cx="5090040" cy="1568160"/>
            </a:xfrm>
          </p:grpSpPr>
          <p:sp>
            <p:nvSpPr>
              <p:cNvPr id="290" name="AutoShape 67"/>
              <p:cNvSpPr/>
              <p:nvPr/>
            </p:nvSpPr>
            <p:spPr>
              <a:xfrm rot="20963400">
                <a:off x="1388520" y="2629800"/>
                <a:ext cx="5057280" cy="648000"/>
              </a:xfrm>
              <a:prstGeom prst="rightArrow">
                <a:avLst>
                  <a:gd name="adj1" fmla="val 50000"/>
                  <a:gd name="adj2" fmla="val 195111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68"/>
              <p:cNvSpPr/>
              <p:nvPr/>
            </p:nvSpPr>
            <p:spPr>
              <a:xfrm rot="20963400">
                <a:off x="2964600" y="291996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 Box 69"/>
            <p:cNvSpPr/>
            <p:nvPr/>
          </p:nvSpPr>
          <p:spPr>
            <a:xfrm rot="20963400">
              <a:off x="1017360" y="2855520"/>
              <a:ext cx="181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70"/>
          <p:cNvGrpSpPr/>
          <p:nvPr/>
        </p:nvGrpSpPr>
        <p:grpSpPr>
          <a:xfrm>
            <a:off x="921600" y="2540880"/>
            <a:ext cx="5367600" cy="2112120"/>
            <a:chOff x="921600" y="2540880"/>
            <a:chExt cx="5367600" cy="2112120"/>
          </a:xfrm>
        </p:grpSpPr>
        <p:grpSp>
          <p:nvGrpSpPr>
            <p:cNvPr id="294" name="Group 71"/>
            <p:cNvGrpSpPr/>
            <p:nvPr/>
          </p:nvGrpSpPr>
          <p:grpSpPr>
            <a:xfrm>
              <a:off x="1334160" y="2540880"/>
              <a:ext cx="4955040" cy="2112120"/>
              <a:chOff x="1334160" y="2540880"/>
              <a:chExt cx="4955040" cy="2112120"/>
            </a:xfrm>
          </p:grpSpPr>
          <p:sp>
            <p:nvSpPr>
              <p:cNvPr id="295" name="AutoShape 72"/>
              <p:cNvSpPr/>
              <p:nvPr/>
            </p:nvSpPr>
            <p:spPr>
              <a:xfrm rot="20554800">
                <a:off x="1316520" y="3272760"/>
                <a:ext cx="4989960" cy="648000"/>
              </a:xfrm>
              <a:prstGeom prst="rightArrow">
                <a:avLst>
                  <a:gd name="adj1" fmla="val 50000"/>
                  <a:gd name="adj2" fmla="val 19251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3"/>
              <p:cNvSpPr/>
              <p:nvPr/>
            </p:nvSpPr>
            <p:spPr>
              <a:xfrm rot="20554800">
                <a:off x="2904840" y="364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Text Box 74"/>
            <p:cNvSpPr/>
            <p:nvPr/>
          </p:nvSpPr>
          <p:spPr>
            <a:xfrm rot="20554800">
              <a:off x="976680" y="382176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75"/>
          <p:cNvGrpSpPr/>
          <p:nvPr/>
        </p:nvGrpSpPr>
        <p:grpSpPr>
          <a:xfrm>
            <a:off x="711360" y="2508480"/>
            <a:ext cx="5484240" cy="3023640"/>
            <a:chOff x="711360" y="2508480"/>
            <a:chExt cx="5484240" cy="3023640"/>
          </a:xfrm>
        </p:grpSpPr>
        <p:grpSp>
          <p:nvGrpSpPr>
            <p:cNvPr id="299" name="Group 76"/>
            <p:cNvGrpSpPr/>
            <p:nvPr/>
          </p:nvGrpSpPr>
          <p:grpSpPr>
            <a:xfrm>
              <a:off x="1170000" y="2508480"/>
              <a:ext cx="5025600" cy="3023640"/>
              <a:chOff x="1170000" y="2508480"/>
              <a:chExt cx="5025600" cy="3023640"/>
            </a:xfrm>
          </p:grpSpPr>
          <p:sp>
            <p:nvSpPr>
              <p:cNvPr id="300" name="AutoShape 77"/>
              <p:cNvSpPr/>
              <p:nvPr/>
            </p:nvSpPr>
            <p:spPr>
              <a:xfrm rot="19957200">
                <a:off x="1020600" y="3696120"/>
                <a:ext cx="5324040" cy="648000"/>
              </a:xfrm>
              <a:prstGeom prst="rightArrow">
                <a:avLst>
                  <a:gd name="adj1" fmla="val 50000"/>
                  <a:gd name="adj2" fmla="val 20540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78"/>
              <p:cNvSpPr/>
              <p:nvPr/>
            </p:nvSpPr>
            <p:spPr>
              <a:xfrm rot="19957200">
                <a:off x="2780640" y="422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Text Box 79"/>
            <p:cNvSpPr/>
            <p:nvPr/>
          </p:nvSpPr>
          <p:spPr>
            <a:xfrm rot="19957200">
              <a:off x="792360" y="47970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AutoShape 81"/>
          <p:cNvSpPr/>
          <p:nvPr/>
        </p:nvSpPr>
        <p:spPr>
          <a:xfrm>
            <a:off x="6227640" y="249228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ED4D-A6D7-4DFA-A47C-5975F54929AA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296720" y="1267920"/>
            <a:ext cx="8380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ein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idersprüchli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07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19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81"/>
          <p:cNvSpPr/>
          <p:nvPr/>
        </p:nvSpPr>
        <p:spPr>
          <a:xfrm>
            <a:off x="6804000" y="530064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5B4C-D0A7-4AE8-8153-D04CB875E54D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3791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die (mindestens) ein Modell haben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36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48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33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365" name="AutoShape 34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5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368" name="AutoShape 37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8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29CE-9988-41FE-BECA-EE9CB8C7CEBD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73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85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35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8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6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7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01" name="Group 57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02" name="AutoShape 42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43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5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05" name="AutoShape 46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51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FF9F-0B61-44DB-A6B3-502EA79570BA}" type="slidenum">
              <a:t>16</a:t>
            </a:fld>
          </a:p>
        </p:txBody>
      </p:sp>
    </p:spTree>
  </p:cSld>
  <p:transition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10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2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22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40"/>
          <p:cNvGrpSpPr/>
          <p:nvPr/>
        </p:nvGrpSpPr>
        <p:grpSpPr>
          <a:xfrm>
            <a:off x="4064760" y="4386960"/>
            <a:ext cx="1865520" cy="1065600"/>
            <a:chOff x="4064760" y="4386960"/>
            <a:chExt cx="1865520" cy="1065600"/>
          </a:xfrm>
        </p:grpSpPr>
        <p:sp>
          <p:nvSpPr>
            <p:cNvPr id="440" name="AutoShape 41"/>
            <p:cNvSpPr/>
            <p:nvPr/>
          </p:nvSpPr>
          <p:spPr>
            <a:xfrm rot="1333200">
              <a:off x="4070160" y="4722840"/>
              <a:ext cx="1854000" cy="393840"/>
            </a:xfrm>
            <a:prstGeom prst="rightArrow">
              <a:avLst>
                <a:gd name="adj1" fmla="val 54602"/>
                <a:gd name="adj2" fmla="val 13170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42"/>
            <p:cNvSpPr/>
            <p:nvPr/>
          </p:nvSpPr>
          <p:spPr>
            <a:xfrm>
              <a:off x="4468320" y="4581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43"/>
          <p:cNvGrpSpPr/>
          <p:nvPr/>
        </p:nvGrpSpPr>
        <p:grpSpPr>
          <a:xfrm>
            <a:off x="3492360" y="5288040"/>
            <a:ext cx="2232000" cy="520560"/>
            <a:chOff x="3492360" y="5288040"/>
            <a:chExt cx="2232000" cy="520560"/>
          </a:xfrm>
        </p:grpSpPr>
        <p:sp>
          <p:nvSpPr>
            <p:cNvPr id="443" name="AutoShape 44"/>
            <p:cNvSpPr/>
            <p:nvPr/>
          </p:nvSpPr>
          <p:spPr>
            <a:xfrm>
              <a:off x="3492360" y="5300640"/>
              <a:ext cx="2232000" cy="393840"/>
            </a:xfrm>
            <a:prstGeom prst="rightArrow">
              <a:avLst>
                <a:gd name="adj1" fmla="val 50000"/>
                <a:gd name="adj2" fmla="val 109646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45"/>
            <p:cNvSpPr/>
            <p:nvPr/>
          </p:nvSpPr>
          <p:spPr>
            <a:xfrm>
              <a:off x="4554000" y="52880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D1C2-E648-4D3A-B2E3-F049B29BE7D3}" type="slidenum">
              <a:t>17</a:t>
            </a:fld>
          </a:p>
        </p:txBody>
      </p:sp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48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60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476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40"/>
          <p:cNvSpPr/>
          <p:nvPr/>
        </p:nvSpPr>
        <p:spPr>
          <a:xfrm rot="5400000">
            <a:off x="5975280" y="4689360"/>
            <a:ext cx="360360" cy="719280"/>
          </a:xfrm>
          <a:prstGeom prst="rightArrow">
            <a:avLst>
              <a:gd name="adj1" fmla="val 50556"/>
              <a:gd name="adj2" fmla="val 52866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1"/>
          <p:cNvSpPr/>
          <p:nvPr/>
        </p:nvSpPr>
        <p:spPr>
          <a:xfrm>
            <a:off x="598140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1D28-2E10-45EF-B382-C37F0633A770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42968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Semantik entlang der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066680" y="16686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es Prinzip bei Definition von Interpretatio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Grundelementen wird festge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zusammengesetzten (konstruierten) Sätzen wird auf die Interpretation der Teile zurückgeführt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397"/>
          <p:cNvGrpSpPr/>
          <p:nvPr/>
        </p:nvGrpSpPr>
        <p:grpSpPr>
          <a:xfrm>
            <a:off x="2075040" y="5184360"/>
            <a:ext cx="1357560" cy="1306440"/>
            <a:chOff x="2075040" y="5184360"/>
            <a:chExt cx="1357560" cy="1306440"/>
          </a:xfrm>
        </p:grpSpPr>
        <p:pic>
          <p:nvPicPr>
            <p:cNvPr id="482" name="Picture 15" descr="GCJB1637"/>
            <p:cNvPicPr/>
            <p:nvPr/>
          </p:nvPicPr>
          <p:blipFill>
            <a:blip r:embed="rId1"/>
            <a:srcRect l="0" t="26755" r="47522" b="0"/>
            <a:stretch/>
          </p:blipFill>
          <p:spPr>
            <a:xfrm>
              <a:off x="2075040" y="5354640"/>
              <a:ext cx="115092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Rectangle 393"/>
            <p:cNvSpPr/>
            <p:nvPr/>
          </p:nvSpPr>
          <p:spPr>
            <a:xfrm rot="18470400">
              <a:off x="2857320" y="6121080"/>
              <a:ext cx="62064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394"/>
            <p:cNvSpPr/>
            <p:nvPr/>
          </p:nvSpPr>
          <p:spPr>
            <a:xfrm rot="17146200">
              <a:off x="3059280" y="5979600"/>
              <a:ext cx="36360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395"/>
            <p:cNvSpPr/>
            <p:nvPr/>
          </p:nvSpPr>
          <p:spPr>
            <a:xfrm rot="2088600">
              <a:off x="2990880" y="5330520"/>
              <a:ext cx="43668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396"/>
            <p:cNvSpPr/>
            <p:nvPr/>
          </p:nvSpPr>
          <p:spPr>
            <a:xfrm rot="3934200">
              <a:off x="2983680" y="5345640"/>
              <a:ext cx="45396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Oval 4"/>
          <p:cNvSpPr/>
          <p:nvPr/>
        </p:nvSpPr>
        <p:spPr>
          <a:xfrm>
            <a:off x="5530680" y="4765680"/>
            <a:ext cx="2232360" cy="20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993600" y="3827520"/>
            <a:ext cx="7921800" cy="113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Die Modelle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genau die Interpreta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onen, die Modelle sowohl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ls auch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.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1"/>
          <p:cNvSpPr/>
          <p:nvPr/>
        </p:nvSpPr>
        <p:spPr>
          <a:xfrm>
            <a:off x="6251400" y="548496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2"/>
          <p:cNvSpPr/>
          <p:nvPr/>
        </p:nvSpPr>
        <p:spPr>
          <a:xfrm>
            <a:off x="6107040" y="613404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4"/>
          <p:cNvSpPr/>
          <p:nvPr/>
        </p:nvSpPr>
        <p:spPr>
          <a:xfrm>
            <a:off x="5818320" y="490860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7"/>
          <p:cNvGrpSpPr/>
          <p:nvPr/>
        </p:nvGrpSpPr>
        <p:grpSpPr>
          <a:xfrm>
            <a:off x="3205080" y="4887360"/>
            <a:ext cx="2710440" cy="883080"/>
            <a:chOff x="3205080" y="4887360"/>
            <a:chExt cx="2710440" cy="883080"/>
          </a:xfrm>
        </p:grpSpPr>
        <p:sp>
          <p:nvSpPr>
            <p:cNvPr id="493" name="AutoShape 20"/>
            <p:cNvSpPr/>
            <p:nvPr/>
          </p:nvSpPr>
          <p:spPr>
            <a:xfrm rot="21103800">
              <a:off x="3227400" y="5076360"/>
              <a:ext cx="2665440" cy="504720"/>
            </a:xfrm>
            <a:prstGeom prst="rightArrow">
              <a:avLst>
                <a:gd name="adj1" fmla="val 46111"/>
                <a:gd name="adj2" fmla="val 107625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2"/>
            <p:cNvSpPr/>
            <p:nvPr/>
          </p:nvSpPr>
          <p:spPr>
            <a:xfrm>
              <a:off x="4347720" y="51242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26"/>
          <p:cNvGrpSpPr/>
          <p:nvPr/>
        </p:nvGrpSpPr>
        <p:grpSpPr>
          <a:xfrm>
            <a:off x="3298680" y="5504040"/>
            <a:ext cx="3024000" cy="572760"/>
            <a:chOff x="3298680" y="5504040"/>
            <a:chExt cx="3024000" cy="572760"/>
          </a:xfrm>
        </p:grpSpPr>
        <p:sp>
          <p:nvSpPr>
            <p:cNvPr id="496" name="AutoShape 19"/>
            <p:cNvSpPr/>
            <p:nvPr/>
          </p:nvSpPr>
          <p:spPr>
            <a:xfrm>
              <a:off x="3298680" y="5504040"/>
              <a:ext cx="3024000" cy="504360"/>
            </a:xfrm>
            <a:prstGeom prst="rightArrow">
              <a:avLst>
                <a:gd name="adj1" fmla="val 46111"/>
                <a:gd name="adj2" fmla="val 12219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3"/>
            <p:cNvSpPr/>
            <p:nvPr/>
          </p:nvSpPr>
          <p:spPr>
            <a:xfrm>
              <a:off x="4563360" y="55562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25"/>
          <p:cNvGrpSpPr/>
          <p:nvPr/>
        </p:nvGrpSpPr>
        <p:grpSpPr>
          <a:xfrm>
            <a:off x="3203640" y="5737320"/>
            <a:ext cx="2852640" cy="1005480"/>
            <a:chOff x="3203640" y="5737320"/>
            <a:chExt cx="2852640" cy="1005480"/>
          </a:xfrm>
        </p:grpSpPr>
        <p:sp>
          <p:nvSpPr>
            <p:cNvPr id="499" name="AutoShape 17"/>
            <p:cNvSpPr/>
            <p:nvPr/>
          </p:nvSpPr>
          <p:spPr>
            <a:xfrm rot="627000">
              <a:off x="3225960" y="5987520"/>
              <a:ext cx="2807640" cy="504720"/>
            </a:xfrm>
            <a:prstGeom prst="rightArrow">
              <a:avLst>
                <a:gd name="adj1" fmla="val 46111"/>
                <a:gd name="adj2" fmla="val 113367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24"/>
            <p:cNvSpPr/>
            <p:nvPr/>
          </p:nvSpPr>
          <p:spPr>
            <a:xfrm>
              <a:off x="4404600" y="59878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E019-77A3-44BE-AABB-91371C263B84}" type="slidenum">
              <a:t>19</a:t>
            </a:fld>
          </a:p>
        </p:txBody>
      </p:sp>
    </p:spTree>
  </p:cSld>
  <p:transition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3520" y="1152000"/>
            <a:ext cx="7358040" cy="23209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59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93520" y="3472920"/>
            <a:ext cx="7358040" cy="23497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Parallels Picture"/>
          <p:cNvPicPr/>
          <p:nvPr/>
        </p:nvPicPr>
        <p:blipFill>
          <a:blip r:embed="rId1"/>
          <a:stretch/>
        </p:blipFill>
        <p:spPr>
          <a:xfrm>
            <a:off x="3876840" y="1596960"/>
            <a:ext cx="2835000" cy="272592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Beweis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rück zu Leibniz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enmaschin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er: Möglichkeit, direkt mit allen möglichen Interpretationen zu arbeiten, oft eing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her: Versuch, Schlussfolgerungsrelation durch rein syntaktische Verfahren zu beschreiben/be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8"/>
          <p:cNvSpPr/>
          <p:nvPr/>
        </p:nvSpPr>
        <p:spPr>
          <a:xfrm>
            <a:off x="5813280" y="186228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9"/>
          <p:cNvSpPr/>
          <p:nvPr/>
        </p:nvSpPr>
        <p:spPr>
          <a:xfrm>
            <a:off x="6029280" y="1574640"/>
            <a:ext cx="2890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20"/>
          <p:cNvSpPr/>
          <p:nvPr/>
        </p:nvSpPr>
        <p:spPr>
          <a:xfrm>
            <a:off x="6461280" y="1214280"/>
            <a:ext cx="172872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7" descr="ED06184"/>
          <p:cNvPicPr/>
          <p:nvPr/>
        </p:nvPicPr>
        <p:blipFill>
          <a:blip r:embed="rId2"/>
          <a:stretch/>
        </p:blipFill>
        <p:spPr>
          <a:xfrm>
            <a:off x="6821640" y="1285920"/>
            <a:ext cx="934920" cy="9316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23"/>
          <p:cNvSpPr/>
          <p:nvPr/>
        </p:nvSpPr>
        <p:spPr>
          <a:xfrm>
            <a:off x="7589160" y="138924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sam10"/>
              </a:rPr>
              <a:t>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64556-BA82-4B0A-8B87-11FFC7C30D10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8060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Entscheidungsverfahren/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414320" y="1677600"/>
            <a:ext cx="5110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Meng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vo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n und Satz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rminiert nach endlicher 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“, falls {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n“ s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thmus für eine Logik, dan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nnt man 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2111400" y="14619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1390680" y="3406680"/>
            <a:ext cx="2592360" cy="20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6" descr="INDUS050"/>
          <p:cNvPicPr/>
          <p:nvPr/>
        </p:nvPicPr>
        <p:blipFill>
          <a:blip r:embed="rId1"/>
          <a:stretch/>
        </p:blipFill>
        <p:spPr>
          <a:xfrm>
            <a:off x="2471760" y="405432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METER"/>
          <p:cNvPicPr/>
          <p:nvPr/>
        </p:nvPicPr>
        <p:blipFill>
          <a:blip r:embed="rId2"/>
          <a:stretch/>
        </p:blipFill>
        <p:spPr>
          <a:xfrm>
            <a:off x="1461960" y="4290840"/>
            <a:ext cx="1079640" cy="101952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8"/>
          <p:cNvSpPr/>
          <p:nvPr/>
        </p:nvSpPr>
        <p:spPr>
          <a:xfrm>
            <a:off x="1461960" y="297504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9"/>
          <p:cNvSpPr/>
          <p:nvPr/>
        </p:nvSpPr>
        <p:spPr>
          <a:xfrm>
            <a:off x="2901960" y="297504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0"/>
          <p:cNvSpPr/>
          <p:nvPr/>
        </p:nvSpPr>
        <p:spPr>
          <a:xfrm>
            <a:off x="3046320" y="196524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2"/>
          <p:cNvSpPr/>
          <p:nvPr/>
        </p:nvSpPr>
        <p:spPr>
          <a:xfrm>
            <a:off x="1541520" y="166860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5"/>
          <p:cNvSpPr/>
          <p:nvPr/>
        </p:nvSpPr>
        <p:spPr>
          <a:xfrm>
            <a:off x="3191040" y="254160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6"/>
          <p:cNvSpPr/>
          <p:nvPr/>
        </p:nvSpPr>
        <p:spPr>
          <a:xfrm>
            <a:off x="1751040" y="254160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7"/>
          <p:cNvSpPr/>
          <p:nvPr/>
        </p:nvSpPr>
        <p:spPr>
          <a:xfrm>
            <a:off x="2327400" y="5423040"/>
            <a:ext cx="93492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19"/>
          <p:cNvSpPr txBox="1"/>
          <p:nvPr/>
        </p:nvSpPr>
        <p:spPr>
          <a:xfrm>
            <a:off x="2327400" y="3478320"/>
            <a:ext cx="136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o-mat</a:t>
            </a:r>
            <a:endParaRPr b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3" name="WordArt 20"/>
          <p:cNvSpPr txBox="1"/>
          <p:nvPr/>
        </p:nvSpPr>
        <p:spPr>
          <a:xfrm>
            <a:off x="1895400" y="347832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524" name="AutoShape 22"/>
          <p:cNvSpPr/>
          <p:nvPr/>
        </p:nvSpPr>
        <p:spPr>
          <a:xfrm>
            <a:off x="1390680" y="174960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1596960" y="19605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6" descr="sha0014"/>
          <p:cNvPicPr/>
          <p:nvPr/>
        </p:nvPicPr>
        <p:blipFill>
          <a:blip r:embed="rId7"/>
          <a:stretch/>
        </p:blipFill>
        <p:spPr>
          <a:xfrm>
            <a:off x="4056120" y="3406680"/>
            <a:ext cx="638280" cy="9352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7" descr="ICN_073C"/>
          <p:cNvPicPr/>
          <p:nvPr/>
        </p:nvPicPr>
        <p:blipFill>
          <a:blip r:embed="rId8"/>
          <a:stretch/>
        </p:blipFill>
        <p:spPr>
          <a:xfrm>
            <a:off x="1247760" y="5567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8" descr="ICN_073C"/>
          <p:cNvPicPr/>
          <p:nvPr/>
        </p:nvPicPr>
        <p:blipFill>
          <a:blip r:embed="rId9"/>
          <a:stretch/>
        </p:blipFill>
        <p:spPr>
          <a:xfrm>
            <a:off x="3191040" y="5638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14"/>
          <p:cNvSpPr/>
          <p:nvPr/>
        </p:nvSpPr>
        <p:spPr>
          <a:xfrm>
            <a:off x="1607400" y="5927760"/>
            <a:ext cx="2462400" cy="581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A/NEIN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450B-8AA6-40F2-B7A2-7841CB6BDA03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8060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fzählungsverfahren/Semi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016160" y="1801440"/>
            <a:ext cx="550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zählungsverfah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Sätz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Sätz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für di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lt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solche Satz wir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rgendwann) aus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2"/>
          <p:cNvSpPr/>
          <p:nvPr/>
        </p:nvSpPr>
        <p:spPr>
          <a:xfrm>
            <a:off x="1928880" y="137016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1359000" y="1576440"/>
            <a:ext cx="93636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9"/>
          <p:cNvSpPr/>
          <p:nvPr/>
        </p:nvSpPr>
        <p:spPr>
          <a:xfrm>
            <a:off x="1208160" y="165744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0"/>
          <p:cNvSpPr/>
          <p:nvPr/>
        </p:nvSpPr>
        <p:spPr>
          <a:xfrm>
            <a:off x="1414440" y="186840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1"/>
          <p:cNvSpPr/>
          <p:nvPr/>
        </p:nvSpPr>
        <p:spPr>
          <a:xfrm>
            <a:off x="380880" y="5473800"/>
            <a:ext cx="80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rithmu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eine Logik, dann nennt ma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mi-entscheidb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2" descr="INDUS041"/>
          <p:cNvPicPr/>
          <p:nvPr/>
        </p:nvPicPr>
        <p:blipFill>
          <a:blip r:embed="rId1"/>
          <a:stretch/>
        </p:blipFill>
        <p:spPr>
          <a:xfrm flipH="1">
            <a:off x="3548160" y="4826160"/>
            <a:ext cx="5976720" cy="18032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5"/>
          <p:cNvSpPr/>
          <p:nvPr/>
        </p:nvSpPr>
        <p:spPr>
          <a:xfrm>
            <a:off x="1208160" y="3314880"/>
            <a:ext cx="2592360" cy="20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INDUS050"/>
          <p:cNvPicPr/>
          <p:nvPr/>
        </p:nvPicPr>
        <p:blipFill>
          <a:blip r:embed="rId2"/>
          <a:stretch/>
        </p:blipFill>
        <p:spPr>
          <a:xfrm>
            <a:off x="2289240" y="396252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METER"/>
          <p:cNvPicPr/>
          <p:nvPr/>
        </p:nvPicPr>
        <p:blipFill>
          <a:blip r:embed="rId3"/>
          <a:stretch/>
        </p:blipFill>
        <p:spPr>
          <a:xfrm>
            <a:off x="1279440" y="4199040"/>
            <a:ext cx="1079640" cy="1019160"/>
          </a:xfrm>
          <a:prstGeom prst="rect">
            <a:avLst/>
          </a:prstGeom>
          <a:ln w="0">
            <a:noFill/>
          </a:ln>
        </p:spPr>
      </p:pic>
      <p:sp>
        <p:nvSpPr>
          <p:cNvPr id="541" name="WordArt 17"/>
          <p:cNvSpPr txBox="1"/>
          <p:nvPr/>
        </p:nvSpPr>
        <p:spPr>
          <a:xfrm>
            <a:off x="1784520" y="3386160"/>
            <a:ext cx="172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semi-o-mat</a:t>
            </a:r>
            <a:endParaRPr b="1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WordArt 18"/>
          <p:cNvSpPr txBox="1"/>
          <p:nvPr/>
        </p:nvSpPr>
        <p:spPr>
          <a:xfrm>
            <a:off x="1352520" y="338616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543" name="AutoShape 10"/>
          <p:cNvSpPr/>
          <p:nvPr/>
        </p:nvSpPr>
        <p:spPr>
          <a:xfrm>
            <a:off x="7977240" y="5473800"/>
            <a:ext cx="1008000" cy="647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8"/>
          <p:cNvSpPr/>
          <p:nvPr/>
        </p:nvSpPr>
        <p:spPr>
          <a:xfrm>
            <a:off x="1279440" y="2882880"/>
            <a:ext cx="1079640" cy="43200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1568520" y="244944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3" descr="ICN_073C"/>
          <p:cNvPicPr/>
          <p:nvPr/>
        </p:nvPicPr>
        <p:blipFill>
          <a:blip r:embed="rId8"/>
          <a:stretch/>
        </p:blipFill>
        <p:spPr>
          <a:xfrm>
            <a:off x="6824520" y="5257800"/>
            <a:ext cx="865440" cy="8650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4" descr="ICN_073C"/>
          <p:cNvPicPr/>
          <p:nvPr/>
        </p:nvPicPr>
        <p:blipFill>
          <a:blip r:embed="rId9"/>
          <a:stretch/>
        </p:blipFill>
        <p:spPr>
          <a:xfrm>
            <a:off x="5961240" y="497052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5" descr="ICN_073C"/>
          <p:cNvPicPr/>
          <p:nvPr/>
        </p:nvPicPr>
        <p:blipFill>
          <a:blip r:embed="rId10"/>
          <a:stretch/>
        </p:blipFill>
        <p:spPr>
          <a:xfrm>
            <a:off x="5024520" y="47545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6" descr="ICN_073C"/>
          <p:cNvPicPr/>
          <p:nvPr/>
        </p:nvPicPr>
        <p:blipFill>
          <a:blip r:embed="rId11"/>
          <a:stretch/>
        </p:blipFill>
        <p:spPr>
          <a:xfrm>
            <a:off x="4376880" y="4754520"/>
            <a:ext cx="433080" cy="433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7" descr="ICN_073C"/>
          <p:cNvPicPr/>
          <p:nvPr/>
        </p:nvPicPr>
        <p:blipFill>
          <a:blip r:embed="rId12"/>
          <a:stretch/>
        </p:blipFill>
        <p:spPr>
          <a:xfrm>
            <a:off x="3944880" y="4754520"/>
            <a:ext cx="362160" cy="3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AED4-B595-494B-9975-9672846DE9F9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gesehen werden als spezielle Form eines Aufzählungsverfa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au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bleitungsregel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53"/>
          <p:cNvGrpSpPr/>
          <p:nvPr/>
        </p:nvGrpSpPr>
        <p:grpSpPr>
          <a:xfrm>
            <a:off x="3708360" y="4076640"/>
            <a:ext cx="1728720" cy="1893960"/>
            <a:chOff x="3708360" y="4076640"/>
            <a:chExt cx="1728720" cy="1893960"/>
          </a:xfrm>
        </p:grpSpPr>
        <p:sp>
          <p:nvSpPr>
            <p:cNvPr id="554" name="Rectangle 32"/>
            <p:cNvSpPr/>
            <p:nvPr/>
          </p:nvSpPr>
          <p:spPr>
            <a:xfrm>
              <a:off x="3708360" y="4530600"/>
              <a:ext cx="1728720" cy="1440000"/>
            </a:xfrm>
            <a:prstGeom prst="rect">
              <a:avLst/>
            </a:prstGeom>
            <a:solidFill>
              <a:srgbClr val="79ff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8"/>
            <p:cNvSpPr/>
            <p:nvPr/>
          </p:nvSpPr>
          <p:spPr>
            <a:xfrm>
              <a:off x="3708360" y="52308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7"/>
            <p:cNvSpPr/>
            <p:nvPr/>
          </p:nvSpPr>
          <p:spPr>
            <a:xfrm>
              <a:off x="3708360" y="45306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3708360" y="45306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1"/>
            <p:cNvSpPr/>
            <p:nvPr/>
          </p:nvSpPr>
          <p:spPr>
            <a:xfrm>
              <a:off x="3708360" y="59310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12"/>
            <p:cNvSpPr/>
            <p:nvPr/>
          </p:nvSpPr>
          <p:spPr>
            <a:xfrm>
              <a:off x="370836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3"/>
            <p:cNvSpPr/>
            <p:nvPr/>
          </p:nvSpPr>
          <p:spPr>
            <a:xfrm>
              <a:off x="543708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17"/>
            <p:cNvSpPr/>
            <p:nvPr/>
          </p:nvSpPr>
          <p:spPr>
            <a:xfrm>
              <a:off x="370836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8"/>
            <p:cNvSpPr/>
            <p:nvPr/>
          </p:nvSpPr>
          <p:spPr>
            <a:xfrm>
              <a:off x="543708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21"/>
            <p:cNvSpPr/>
            <p:nvPr/>
          </p:nvSpPr>
          <p:spPr>
            <a:xfrm>
              <a:off x="3708360" y="523080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33"/>
            <p:cNvSpPr/>
            <p:nvPr/>
          </p:nvSpPr>
          <p:spPr>
            <a:xfrm>
              <a:off x="4775040" y="4076640"/>
              <a:ext cx="64800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34"/>
            <p:cNvSpPr/>
            <p:nvPr/>
          </p:nvSpPr>
          <p:spPr>
            <a:xfrm>
              <a:off x="3784680" y="4076640"/>
              <a:ext cx="64764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Text Box 36"/>
          <p:cNvSpPr/>
          <p:nvPr/>
        </p:nvSpPr>
        <p:spPr>
          <a:xfrm>
            <a:off x="482400" y="2924280"/>
            <a:ext cx="31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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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7"/>
          <p:cNvSpPr/>
          <p:nvPr/>
        </p:nvSpPr>
        <p:spPr>
          <a:xfrm>
            <a:off x="716040" y="292752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8"/>
          <p:cNvSpPr/>
          <p:nvPr/>
        </p:nvSpPr>
        <p:spPr>
          <a:xfrm>
            <a:off x="1293120" y="2919240"/>
            <a:ext cx="52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9"/>
          <p:cNvSpPr/>
          <p:nvPr/>
        </p:nvSpPr>
        <p:spPr>
          <a:xfrm>
            <a:off x="3780000" y="522936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0"/>
          <p:cNvSpPr/>
          <p:nvPr/>
        </p:nvSpPr>
        <p:spPr>
          <a:xfrm>
            <a:off x="3708360" y="4521240"/>
            <a:ext cx="1728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51"/>
          <p:cNvSpPr/>
          <p:nvPr/>
        </p:nvSpPr>
        <p:spPr>
          <a:xfrm>
            <a:off x="3708360" y="52214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9"/>
          <p:cNvSpPr/>
          <p:nvPr/>
        </p:nvSpPr>
        <p:spPr>
          <a:xfrm>
            <a:off x="3780000" y="522936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134E-7E67-4EE2-8EFB-4526D313CAF3}" type="slidenum">
              <a:t>23</a:t>
            </a:fld>
          </a:p>
        </p:txBody>
      </p:sp>
    </p:spTree>
  </p:cSld>
  <p:transition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C 0.05468 0.10417 0.10937 0.20834 0.15989 0.20139 C 0.21041 0.19445 0.27361 -0.04699 0.30312 -0.04166 C 0.33264 -0.03634 0.33472 0.09885 0.33698 0.23403 E">
                                      <p:cBhvr>
                                        <p:cTn id="418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85185E-006 C 0.02309 0.03102 0.07847 0.19398 0.13907 0.18634 C 0.19966 0.17871 0.32257 -0.05416 0.36354 -0.04629 C 0.40452 -0.03842 0.38091 0.175 0.38542 0.23334 E">
                                      <p:cBhvr>
                                        <p:cTn id="420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-0.01909 0.04954 -0.03802 0.09931 -0.07239 0.09097 C -0.10677 0.08264 -0.18906 0.0213 -0.20625 -0.05 C -0.22343 -0.12129 -0.19948 -0.2294 -0.17552 -0.3375 E">
                                      <p:cBhvr>
                                        <p:cTn id="434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219320" y="1676160"/>
            <a:ext cx="777240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Satz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aus einer Menge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on Sätz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bleitba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geschrieben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sich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urch wiederholtes Anwenden der Ableitungsregeln eines Deduktionskalküls aus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„erzeugen“ läs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korrek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ou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ableitbaren Schlüsse auch wirklich logisch fol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vollständi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logischen Konsequenzen auch abgeleitet werden könn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einem korrekten und vollständigen Deduktionskalkül gil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man kann es als Aufzählungsverfahren verwenden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htung! Es gibt Logiken, für die nachweislich kein solches Deduktionskalkül existiert (Gödel 193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25"/>
          <p:cNvGrpSpPr/>
          <p:nvPr/>
        </p:nvGrpSpPr>
        <p:grpSpPr>
          <a:xfrm>
            <a:off x="453960" y="5157720"/>
            <a:ext cx="1069920" cy="1495440"/>
            <a:chOff x="453960" y="5157720"/>
            <a:chExt cx="1069920" cy="1495440"/>
          </a:xfrm>
        </p:grpSpPr>
        <p:pic>
          <p:nvPicPr>
            <p:cNvPr id="576" name="Picture 23" descr="goedel-kurt"/>
            <p:cNvPicPr/>
            <p:nvPr/>
          </p:nvPicPr>
          <p:blipFill>
            <a:blip r:embed="rId1"/>
            <a:srcRect l="14554" t="0" r="10232" b="25893"/>
            <a:stretch/>
          </p:blipFill>
          <p:spPr>
            <a:xfrm>
              <a:off x="453960" y="5168880"/>
              <a:ext cx="106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Rectangle 24"/>
            <p:cNvSpPr/>
            <p:nvPr/>
          </p:nvSpPr>
          <p:spPr>
            <a:xfrm>
              <a:off x="453960" y="5157720"/>
              <a:ext cx="1066680" cy="149544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A2A0-8EE2-48BA-B16E-65FF623AFC78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eitere interessante Eigenschaften von Logiken: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ot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akt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gorithmische Komplexität für Entscheidungs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jede Menge ande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A6DB-CC8F-4721-B6DB-85A7987867EF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ropositiona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oolesch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on bei den Stoikern voll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earbeitete Junktoren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orge Boole (1815 – 1864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 Investigation of the Laws of Thoug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(18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ktische Grundelemente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omare Sätze / Propositionen / Aussag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p, q,…,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önnen als natürlichsprachliche Aussagen gedacht werden: „Es regnet.“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5" descr="Parallels Picture 2"/>
          <p:cNvPicPr/>
          <p:nvPr/>
        </p:nvPicPr>
        <p:blipFill>
          <a:blip r:embed="rId1"/>
          <a:srcRect l="16668" t="18075" r="69423" b="60077"/>
          <a:stretch/>
        </p:blipFill>
        <p:spPr>
          <a:xfrm>
            <a:off x="5562720" y="1219320"/>
            <a:ext cx="1908000" cy="187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F4B3-F673-4F59-84F8-04513FC9B826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6"/>
          <p:cNvSpPr/>
          <p:nvPr/>
        </p:nvSpPr>
        <p:spPr>
          <a:xfrm>
            <a:off x="154764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1"/>
          <p:cNvSpPr/>
          <p:nvPr/>
        </p:nvSpPr>
        <p:spPr>
          <a:xfrm>
            <a:off x="313200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2"/>
          <p:cNvSpPr/>
          <p:nvPr/>
        </p:nvSpPr>
        <p:spPr>
          <a:xfrm>
            <a:off x="4572000" y="3357720"/>
            <a:ext cx="129708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3"/>
          <p:cNvSpPr/>
          <p:nvPr/>
        </p:nvSpPr>
        <p:spPr>
          <a:xfrm>
            <a:off x="6372360" y="3357720"/>
            <a:ext cx="136836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8" name="AutoShape 14"/>
          <p:cNvSpPr/>
          <p:nvPr/>
        </p:nvSpPr>
        <p:spPr>
          <a:xfrm>
            <a:off x="2028960" y="3043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7380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0"/>
          <p:cNvSpPr/>
          <p:nvPr/>
        </p:nvSpPr>
        <p:spPr>
          <a:xfrm>
            <a:off x="6948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7"/>
          <p:cNvSpPr/>
          <p:nvPr/>
        </p:nvSpPr>
        <p:spPr>
          <a:xfrm>
            <a:off x="2917800" y="305604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5148360" y="2637000"/>
            <a:ext cx="64764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9"/>
          <p:cNvSpPr/>
          <p:nvPr/>
        </p:nvSpPr>
        <p:spPr>
          <a:xfrm>
            <a:off x="1908000" y="2637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ungsregeln für Sät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atomaren Propositionen sind Sätze ( p , q 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 φ ein Satz, dann auch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φ und ψ Sätze, dann auch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φ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 , (φ 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, (φ → ψ) und (φ ↔ 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mmern können ggf. weggelassen werden;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zedenzen (bei uns)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tzlic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mmern machen es trotzem oft lesbar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3188-83D6-43AB-8CCC-FC98D725CE9B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 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905120" y="1415880"/>
          <a:ext cx="5715000" cy="2089440"/>
        </p:xfrm>
        <a:graphic>
          <a:graphicData uri="http://schemas.openxmlformats.org/drawingml/2006/table">
            <a:tbl>
              <a:tblPr/>
              <a:tblGrid>
                <a:gridCol w="950760"/>
                <a:gridCol w="1487520"/>
                <a:gridCol w="3276720"/>
              </a:tblGrid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Junk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ntuitive Bedeut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$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k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Äquivalen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ht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er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– da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u dann, we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611280" y="3645000"/>
          <a:ext cx="7773840" cy="1463400"/>
        </p:xfrm>
        <a:graphic>
          <a:graphicData uri="http://schemas.openxmlformats.org/drawingml/2006/table">
            <a:tbl>
              <a:tblPr/>
              <a:tblGrid>
                <a:gridCol w="5327640"/>
                <a:gridCol w="24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infach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regnet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raße wird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onne ist grü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684360" y="5229360"/>
          <a:ext cx="7702560" cy="1371600"/>
        </p:xfrm>
        <a:graphic>
          <a:graphicData uri="http://schemas.openxmlformats.org/drawingml/2006/table">
            <a:tbl>
              <a:tblPr/>
              <a:tblGrid>
                <a:gridCol w="5279760"/>
                <a:gridCol w="2422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Zusammengesetzt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dann wird die Straße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und die Straße nicht nass wird, dann ist die Sonne grün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087B-A76E-4F7A-B2FA-4A1C89EA993E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52388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Modelle der Aussagenlogi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02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20"/>
          <p:cNvSpPr/>
          <p:nvPr/>
        </p:nvSpPr>
        <p:spPr>
          <a:xfrm>
            <a:off x="5364000" y="4365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21"/>
          <p:cNvSpPr/>
          <p:nvPr/>
        </p:nvSpPr>
        <p:spPr>
          <a:xfrm>
            <a:off x="6659640" y="285264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22"/>
          <p:cNvSpPr/>
          <p:nvPr/>
        </p:nvSpPr>
        <p:spPr>
          <a:xfrm>
            <a:off x="5508720" y="328464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23"/>
          <p:cNvSpPr/>
          <p:nvPr/>
        </p:nvSpPr>
        <p:spPr>
          <a:xfrm>
            <a:off x="6588000" y="4941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25"/>
          <p:cNvSpPr/>
          <p:nvPr/>
        </p:nvSpPr>
        <p:spPr>
          <a:xfrm>
            <a:off x="6588000" y="357336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1825560" y="270828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2401920" y="386064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457200" y="3789360"/>
          <a:ext cx="1306440" cy="89208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1754280" y="501336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pSp>
        <p:nvGrpSpPr>
          <p:cNvPr id="615" name="Group 201"/>
          <p:cNvGrpSpPr/>
          <p:nvPr/>
        </p:nvGrpSpPr>
        <p:grpSpPr>
          <a:xfrm>
            <a:off x="3134520" y="4570920"/>
            <a:ext cx="2225520" cy="1143720"/>
            <a:chOff x="3134520" y="4570920"/>
            <a:chExt cx="2225520" cy="1143720"/>
          </a:xfrm>
        </p:grpSpPr>
        <p:sp>
          <p:nvSpPr>
            <p:cNvPr id="616" name="AutoShape 202"/>
            <p:cNvSpPr/>
            <p:nvPr/>
          </p:nvSpPr>
          <p:spPr>
            <a:xfrm rot="20372400">
              <a:off x="3132000" y="4948200"/>
              <a:ext cx="2230200" cy="388800"/>
            </a:xfrm>
            <a:prstGeom prst="rightArrow">
              <a:avLst>
                <a:gd name="adj1" fmla="val 50000"/>
                <a:gd name="adj2" fmla="val 1434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203"/>
            <p:cNvSpPr/>
            <p:nvPr/>
          </p:nvSpPr>
          <p:spPr>
            <a:xfrm>
              <a:off x="4042080" y="494172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AutoShape 205"/>
          <p:cNvSpPr/>
          <p:nvPr/>
        </p:nvSpPr>
        <p:spPr>
          <a:xfrm rot="20372400">
            <a:off x="3709800" y="3727440"/>
            <a:ext cx="1871640" cy="388800"/>
          </a:xfrm>
          <a:prstGeom prst="rightArrow">
            <a:avLst>
              <a:gd name="adj1" fmla="val 50000"/>
              <a:gd name="adj2" fmla="val 120347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06"/>
          <p:cNvSpPr/>
          <p:nvPr/>
        </p:nvSpPr>
        <p:spPr>
          <a:xfrm>
            <a:off x="4468320" y="371628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207"/>
          <p:cNvSpPr/>
          <p:nvPr/>
        </p:nvSpPr>
        <p:spPr>
          <a:xfrm rot="481200">
            <a:off x="3273480" y="3021120"/>
            <a:ext cx="2303280" cy="388800"/>
          </a:xfrm>
          <a:prstGeom prst="rightArrow">
            <a:avLst>
              <a:gd name="adj1" fmla="val 50000"/>
              <a:gd name="adj2" fmla="val 14810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08"/>
          <p:cNvSpPr/>
          <p:nvPr/>
        </p:nvSpPr>
        <p:spPr>
          <a:xfrm>
            <a:off x="410796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210"/>
          <p:cNvSpPr/>
          <p:nvPr/>
        </p:nvSpPr>
        <p:spPr>
          <a:xfrm rot="369600">
            <a:off x="3780000" y="4292280"/>
            <a:ext cx="1584000" cy="388800"/>
          </a:xfrm>
          <a:prstGeom prst="rightArrow">
            <a:avLst>
              <a:gd name="adj1" fmla="val 53602"/>
              <a:gd name="adj2" fmla="val 14529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209"/>
          <p:cNvSpPr/>
          <p:nvPr/>
        </p:nvSpPr>
        <p:spPr>
          <a:xfrm>
            <a:off x="4252320" y="42210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211"/>
          <p:cNvSpPr/>
          <p:nvPr/>
        </p:nvSpPr>
        <p:spPr>
          <a:xfrm>
            <a:off x="6516720" y="4292640"/>
            <a:ext cx="201600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413D-04EA-4864-B340-AD298D2471C5}" type="slidenum">
              <a:t>29</a:t>
            </a:fld>
          </a:p>
        </p:txBody>
      </p:sp>
    </p:spTree>
  </p:cSld>
  <p:transition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1200"/>
            <a:ext cx="10261440" cy="633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k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Grundla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165640" y="2327400"/>
            <a:ext cx="3251160" cy="27288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164200" y="2338560"/>
            <a:ext cx="32526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23040" tIns="26640" bIns="2664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165640" y="2584440"/>
            <a:ext cx="3257640" cy="401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5295960" y="2746440"/>
            <a:ext cx="3009960" cy="3116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5375160" y="4064040"/>
            <a:ext cx="2287800" cy="20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981760" y="5845320"/>
            <a:ext cx="124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75160" y="3165480"/>
            <a:ext cx="2894040" cy="88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5730840" y="3197160"/>
            <a:ext cx="11779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5259240" y="2705040"/>
            <a:ext cx="3133800" cy="3429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"/>
          <p:cNvPicPr/>
          <p:nvPr/>
        </p:nvPicPr>
        <p:blipFill>
          <a:blip r:embed="rId2"/>
          <a:srcRect l="33303" t="43631" r="21726" b="32720"/>
          <a:stretch/>
        </p:blipFill>
        <p:spPr>
          <a:xfrm>
            <a:off x="6299280" y="4089240"/>
            <a:ext cx="135396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468360" y="2060640"/>
          <a:ext cx="4268520" cy="4524480"/>
        </p:xfrm>
        <a:graphic>
          <a:graphicData uri="http://schemas.openxmlformats.org/drawingml/2006/table">
            <a:tbl>
              <a:tblPr/>
              <a:tblGrid>
                <a:gridCol w="4268520"/>
              </a:tblGrid>
              <a:tr h="32400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Regelsprach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- Syntax und Semanti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64"/>
          <p:cNvSpPr/>
          <p:nvPr/>
        </p:nvSpPr>
        <p:spPr>
          <a:xfrm>
            <a:off x="468360" y="3284640"/>
            <a:ext cx="4294080" cy="30312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14AA5-AE36-4488-87BA-32F40E4EF633}" type="slidenum">
              <a:t>3</a:t>
            </a:fld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92"/>
          <p:cNvSpPr/>
          <p:nvPr/>
        </p:nvSpPr>
        <p:spPr>
          <a:xfrm>
            <a:off x="755640" y="3357720"/>
            <a:ext cx="8209080" cy="344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17240" y="19807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al: Interpretatione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Abbildungen von der Menge der atomaren Propositionen in die Menge {wahr, falsch}, d.h. jeder dieser Proposi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ein Wahrheitswer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zugeord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aus bestimmt man Modelle für zusammengesetzte Sätze ü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→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↔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fü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n oder kei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beiden Sätze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04F8-C8FB-49E3-A3B9-29730C98627F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Tautologie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31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7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639" name="AutoShape 83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84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85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86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87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88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89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90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91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92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93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94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95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96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WordArt 98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4" name="WordArt 99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5" name="WordArt 100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6" name="WordArt 101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7" name="AutoShape 97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02"/>
          <p:cNvSpPr/>
          <p:nvPr/>
        </p:nvSpPr>
        <p:spPr>
          <a:xfrm>
            <a:off x="5076720" y="43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(tertium non datu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E50B-4CC0-4739-BAB0-F1395CA3267B}" type="slidenum">
              <a:t>31</a:t>
            </a:fld>
          </a:p>
        </p:txBody>
      </p:sp>
    </p:spTree>
  </p:cSld>
  <p:transition>
    <p:fad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Kontradiktion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62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9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670" name="AutoShape 77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8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79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0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81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82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83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84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8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86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87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88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89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90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WordArt 91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5" name="WordArt 92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6" name="WordArt 93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7" name="WordArt 94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8" name="AutoShape 9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00"/>
          <p:cNvSpPr/>
          <p:nvPr/>
        </p:nvSpPr>
        <p:spPr>
          <a:xfrm>
            <a:off x="4140360" y="299736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01"/>
          <p:cNvSpPr/>
          <p:nvPr/>
        </p:nvSpPr>
        <p:spPr>
          <a:xfrm>
            <a:off x="3995640" y="3573360"/>
            <a:ext cx="43200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02"/>
          <p:cNvSpPr/>
          <p:nvPr/>
        </p:nvSpPr>
        <p:spPr>
          <a:xfrm>
            <a:off x="4067280" y="414972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03"/>
          <p:cNvSpPr/>
          <p:nvPr/>
        </p:nvSpPr>
        <p:spPr>
          <a:xfrm>
            <a:off x="4140360" y="4797360"/>
            <a:ext cx="43164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2DFA-E071-41A3-AB19-625A031C4D41}" type="slidenum">
              <a:t>32</a:t>
            </a:fld>
          </a:p>
        </p:txBody>
      </p:sp>
    </p:spTree>
  </p:cSld>
  <p:transition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952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inige logische Äquivalen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1640" y="1628280"/>
            <a:ext cx="432108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9"/>
          <p:cNvSpPr/>
          <p:nvPr/>
        </p:nvSpPr>
        <p:spPr>
          <a:xfrm>
            <a:off x="684360" y="1628640"/>
            <a:ext cx="38098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548720" y="1557360"/>
            <a:ext cx="351360" cy="504720"/>
            <a:chOff x="1548720" y="1557360"/>
            <a:chExt cx="351360" cy="504720"/>
          </a:xfrm>
        </p:grpSpPr>
        <p:sp>
          <p:nvSpPr>
            <p:cNvPr id="697" name=""/>
            <p:cNvSpPr/>
            <p:nvPr/>
          </p:nvSpPr>
          <p:spPr>
            <a:xfrm>
              <a:off x="1548720" y="1617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548720" y="155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548720" y="1916280"/>
            <a:ext cx="351360" cy="504360"/>
            <a:chOff x="1548720" y="1916280"/>
            <a:chExt cx="351360" cy="504360"/>
          </a:xfrm>
        </p:grpSpPr>
        <p:sp>
          <p:nvSpPr>
            <p:cNvPr id="700" name=""/>
            <p:cNvSpPr/>
            <p:nvPr/>
          </p:nvSpPr>
          <p:spPr>
            <a:xfrm>
              <a:off x="1548720" y="19764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48720" y="1916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2269440" y="2637000"/>
            <a:ext cx="351360" cy="504360"/>
            <a:chOff x="2269440" y="2637000"/>
            <a:chExt cx="351360" cy="504360"/>
          </a:xfrm>
        </p:grpSpPr>
        <p:sp>
          <p:nvSpPr>
            <p:cNvPr id="703" name=""/>
            <p:cNvSpPr/>
            <p:nvPr/>
          </p:nvSpPr>
          <p:spPr>
            <a:xfrm>
              <a:off x="2269440" y="269712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69440" y="2637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269440" y="2924280"/>
            <a:ext cx="351360" cy="504720"/>
            <a:chOff x="2269440" y="2924280"/>
            <a:chExt cx="351360" cy="504720"/>
          </a:xfrm>
        </p:grpSpPr>
        <p:sp>
          <p:nvSpPr>
            <p:cNvPr id="706" name=""/>
            <p:cNvSpPr/>
            <p:nvPr/>
          </p:nvSpPr>
          <p:spPr>
            <a:xfrm>
              <a:off x="2269440" y="29847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69440" y="2924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1620360" y="3645000"/>
            <a:ext cx="351360" cy="504720"/>
            <a:chOff x="1620360" y="3645000"/>
            <a:chExt cx="351360" cy="504720"/>
          </a:xfrm>
        </p:grpSpPr>
        <p:sp>
          <p:nvSpPr>
            <p:cNvPr id="709" name=""/>
            <p:cNvSpPr/>
            <p:nvPr/>
          </p:nvSpPr>
          <p:spPr>
            <a:xfrm>
              <a:off x="1620360" y="3705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20360" y="3645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1620360" y="4005360"/>
            <a:ext cx="351360" cy="504720"/>
            <a:chOff x="1620360" y="4005360"/>
            <a:chExt cx="351360" cy="504720"/>
          </a:xfrm>
        </p:grpSpPr>
        <p:sp>
          <p:nvSpPr>
            <p:cNvPr id="712" name=""/>
            <p:cNvSpPr/>
            <p:nvPr/>
          </p:nvSpPr>
          <p:spPr>
            <a:xfrm>
              <a:off x="1620360" y="4065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620360" y="4005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341080" y="4653000"/>
            <a:ext cx="351360" cy="504720"/>
            <a:chOff x="2341080" y="4653000"/>
            <a:chExt cx="351360" cy="504720"/>
          </a:xfrm>
        </p:grpSpPr>
        <p:sp>
          <p:nvSpPr>
            <p:cNvPr id="715" name=""/>
            <p:cNvSpPr/>
            <p:nvPr/>
          </p:nvSpPr>
          <p:spPr>
            <a:xfrm>
              <a:off x="2341080" y="4713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41080" y="4653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2341080" y="5013360"/>
            <a:ext cx="351360" cy="504720"/>
            <a:chOff x="2341080" y="5013360"/>
            <a:chExt cx="351360" cy="504720"/>
          </a:xfrm>
        </p:grpSpPr>
        <p:sp>
          <p:nvSpPr>
            <p:cNvPr id="718" name=""/>
            <p:cNvSpPr/>
            <p:nvPr/>
          </p:nvSpPr>
          <p:spPr>
            <a:xfrm>
              <a:off x="2341080" y="5073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341080" y="5013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5509800" y="1557360"/>
            <a:ext cx="351360" cy="504720"/>
            <a:chOff x="5509800" y="1557360"/>
            <a:chExt cx="351360" cy="504720"/>
          </a:xfrm>
        </p:grpSpPr>
        <p:sp>
          <p:nvSpPr>
            <p:cNvPr id="721" name=""/>
            <p:cNvSpPr/>
            <p:nvPr/>
          </p:nvSpPr>
          <p:spPr>
            <a:xfrm>
              <a:off x="5509800" y="1617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09800" y="155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5509800" y="1916280"/>
            <a:ext cx="351360" cy="504360"/>
            <a:chOff x="5509800" y="1916280"/>
            <a:chExt cx="351360" cy="504360"/>
          </a:xfrm>
        </p:grpSpPr>
        <p:sp>
          <p:nvSpPr>
            <p:cNvPr id="724" name=""/>
            <p:cNvSpPr/>
            <p:nvPr/>
          </p:nvSpPr>
          <p:spPr>
            <a:xfrm>
              <a:off x="5509800" y="19764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509800" y="1916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5797080" y="2637000"/>
            <a:ext cx="351360" cy="504360"/>
            <a:chOff x="5797080" y="2637000"/>
            <a:chExt cx="351360" cy="504360"/>
          </a:xfrm>
        </p:grpSpPr>
        <p:sp>
          <p:nvSpPr>
            <p:cNvPr id="727" name=""/>
            <p:cNvSpPr/>
            <p:nvPr/>
          </p:nvSpPr>
          <p:spPr>
            <a:xfrm>
              <a:off x="5797080" y="269712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97080" y="2637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293800" y="3789360"/>
            <a:ext cx="351360" cy="504720"/>
            <a:chOff x="5293800" y="3789360"/>
            <a:chExt cx="351360" cy="504720"/>
          </a:xfrm>
        </p:grpSpPr>
        <p:sp>
          <p:nvSpPr>
            <p:cNvPr id="730" name=""/>
            <p:cNvSpPr/>
            <p:nvPr/>
          </p:nvSpPr>
          <p:spPr>
            <a:xfrm>
              <a:off x="5293800" y="3849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93800" y="3789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797080" y="2997360"/>
            <a:ext cx="351360" cy="504360"/>
            <a:chOff x="5797080" y="2997360"/>
            <a:chExt cx="351360" cy="504360"/>
          </a:xfrm>
        </p:grpSpPr>
        <p:sp>
          <p:nvSpPr>
            <p:cNvPr id="733" name=""/>
            <p:cNvSpPr/>
            <p:nvPr/>
          </p:nvSpPr>
          <p:spPr>
            <a:xfrm>
              <a:off x="5797080" y="3057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797080" y="299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157440" y="4869000"/>
            <a:ext cx="351360" cy="504720"/>
            <a:chOff x="6157440" y="4869000"/>
            <a:chExt cx="351360" cy="504720"/>
          </a:xfrm>
        </p:grpSpPr>
        <p:sp>
          <p:nvSpPr>
            <p:cNvPr id="736" name=""/>
            <p:cNvSpPr/>
            <p:nvPr/>
          </p:nvSpPr>
          <p:spPr>
            <a:xfrm>
              <a:off x="6157440" y="4929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57440" y="4869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6157440" y="4508640"/>
            <a:ext cx="351360" cy="504360"/>
            <a:chOff x="6157440" y="4508640"/>
            <a:chExt cx="351360" cy="504360"/>
          </a:xfrm>
        </p:grpSpPr>
        <p:sp>
          <p:nvSpPr>
            <p:cNvPr id="739" name=""/>
            <p:cNvSpPr/>
            <p:nvPr/>
          </p:nvSpPr>
          <p:spPr>
            <a:xfrm>
              <a:off x="6157440" y="45687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157440" y="45086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0628-0E6A-4C86-BDB5-49F15D709475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49120" y="533520"/>
            <a:ext cx="7918200" cy="38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Normalformen &amp; vollständige Junktor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iesen Äquivalenenzen folg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logisch äquivalente Formel, die nur die Junktor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nthä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Formel in konjunktiver Normalform, d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r einfache Negation direkt vor atomaren Propositionen (sog. Lit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el ist Konjunktion von Disjunktionen von Liter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sp.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25AC-B65A-458D-B6B0-B5543589A7C1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logik ist 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ützliche Eigenschaft dabei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ilt genau dann, wenn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 Tautologie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, ob Satz Tautologie ist, über Wahrheitswerttab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Prinzip: Überprüfung aller Interpretationen (nur die Wahrheitswerte der vorkommenden atomaren Propositionen fallen ins Gew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B895-71CA-4636-B5CC-EEB6EF626C51}" type="slidenum">
              <a:t>35</a:t>
            </a:fld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5" name=""/>
          <p:cNvGraphicFramePr/>
          <p:nvPr/>
        </p:nvGraphicFramePr>
        <p:xfrm>
          <a:off x="1668600" y="4100400"/>
          <a:ext cx="6408720" cy="2168640"/>
        </p:xfrm>
        <a:graphic>
          <a:graphicData uri="http://schemas.openxmlformats.org/drawingml/2006/table">
            <a:tbl>
              <a:tblPr/>
              <a:tblGrid>
                <a:gridCol w="1008000"/>
                <a:gridCol w="1295280"/>
                <a:gridCol w="1728720"/>
                <a:gridCol w="237672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Oval 452"/>
          <p:cNvSpPr/>
          <p:nvPr/>
        </p:nvSpPr>
        <p:spPr>
          <a:xfrm>
            <a:off x="-1538280" y="3206880"/>
            <a:ext cx="3672000" cy="40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450"/>
          <p:cNvSpPr/>
          <p:nvPr/>
        </p:nvSpPr>
        <p:spPr>
          <a:xfrm>
            <a:off x="2892600" y="301932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1"/>
          <p:cNvGrpSpPr/>
          <p:nvPr/>
        </p:nvGrpSpPr>
        <p:grpSpPr>
          <a:xfrm>
            <a:off x="1163520" y="1652760"/>
            <a:ext cx="1368000" cy="1294920"/>
            <a:chOff x="1163520" y="1652760"/>
            <a:chExt cx="1368000" cy="1294920"/>
          </a:xfrm>
        </p:grpSpPr>
        <p:sp>
          <p:nvSpPr>
            <p:cNvPr id="749" name="WordArt 9"/>
            <p:cNvSpPr txBox="1"/>
            <p:nvPr/>
          </p:nvSpPr>
          <p:spPr>
            <a:xfrm>
              <a:off x="1163520" y="1652760"/>
              <a:ext cx="1190160" cy="113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84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750" name="Rectangle 10"/>
            <p:cNvSpPr/>
            <p:nvPr/>
          </p:nvSpPr>
          <p:spPr>
            <a:xfrm>
              <a:off x="1184760" y="1652760"/>
              <a:ext cx="1346760" cy="12949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Text Box 5"/>
          <p:cNvSpPr/>
          <p:nvPr/>
        </p:nvSpPr>
        <p:spPr>
          <a:xfrm>
            <a:off x="2316240" y="1752480"/>
            <a:ext cx="287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Modus Pone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,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6"/>
          <p:cNvSpPr/>
          <p:nvPr/>
        </p:nvSpPr>
        <p:spPr>
          <a:xfrm>
            <a:off x="4836960" y="2203560"/>
            <a:ext cx="57492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7"/>
          <p:cNvSpPr/>
          <p:nvPr/>
        </p:nvSpPr>
        <p:spPr>
          <a:xfrm>
            <a:off x="2603520" y="2203560"/>
            <a:ext cx="5763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8"/>
          <p:cNvSpPr/>
          <p:nvPr/>
        </p:nvSpPr>
        <p:spPr>
          <a:xfrm>
            <a:off x="3252960" y="2203560"/>
            <a:ext cx="103500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2"/>
          <p:cNvSpPr/>
          <p:nvPr/>
        </p:nvSpPr>
        <p:spPr>
          <a:xfrm>
            <a:off x="2720520" y="30193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13"/>
          <p:cNvSpPr/>
          <p:nvPr/>
        </p:nvSpPr>
        <p:spPr>
          <a:xfrm>
            <a:off x="5772240" y="4172040"/>
            <a:ext cx="223200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166"/>
          <p:cNvSpPr/>
          <p:nvPr/>
        </p:nvSpPr>
        <p:spPr>
          <a:xfrm>
            <a:off x="4044960" y="4172040"/>
            <a:ext cx="1584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168"/>
          <p:cNvSpPr/>
          <p:nvPr/>
        </p:nvSpPr>
        <p:spPr>
          <a:xfrm>
            <a:off x="2747880" y="4172040"/>
            <a:ext cx="115272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1317600" y="529128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0" name=""/>
          <p:cNvGraphicFramePr/>
          <p:nvPr/>
        </p:nvGraphicFramePr>
        <p:xfrm>
          <a:off x="1314360" y="489276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1" name=""/>
          <p:cNvGraphicFramePr/>
          <p:nvPr/>
        </p:nvGraphicFramePr>
        <p:xfrm>
          <a:off x="1309680" y="449892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2" name=""/>
          <p:cNvGraphicFramePr/>
          <p:nvPr/>
        </p:nvGraphicFramePr>
        <p:xfrm>
          <a:off x="1314360" y="410040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63" name="AutoShape 387"/>
          <p:cNvSpPr/>
          <p:nvPr/>
        </p:nvSpPr>
        <p:spPr>
          <a:xfrm>
            <a:off x="2892600" y="301932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390"/>
          <p:cNvGrpSpPr/>
          <p:nvPr/>
        </p:nvGrpSpPr>
        <p:grpSpPr>
          <a:xfrm>
            <a:off x="6563880" y="4623120"/>
            <a:ext cx="504360" cy="593280"/>
            <a:chOff x="6563880" y="4623120"/>
            <a:chExt cx="504360" cy="593280"/>
          </a:xfrm>
        </p:grpSpPr>
        <p:sp>
          <p:nvSpPr>
            <p:cNvPr id="765" name="AutoShape 388"/>
            <p:cNvSpPr/>
            <p:nvPr/>
          </p:nvSpPr>
          <p:spPr>
            <a:xfrm rot="19359600">
              <a:off x="6635520" y="46954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89"/>
            <p:cNvSpPr/>
            <p:nvPr/>
          </p:nvSpPr>
          <p:spPr>
            <a:xfrm>
              <a:off x="6605280" y="4695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396"/>
          <p:cNvGrpSpPr/>
          <p:nvPr/>
        </p:nvGrpSpPr>
        <p:grpSpPr>
          <a:xfrm>
            <a:off x="2963160" y="5415120"/>
            <a:ext cx="504000" cy="593280"/>
            <a:chOff x="2963160" y="5415120"/>
            <a:chExt cx="504000" cy="593280"/>
          </a:xfrm>
        </p:grpSpPr>
        <p:grpSp>
          <p:nvGrpSpPr>
            <p:cNvPr id="768" name="Group 391"/>
            <p:cNvGrpSpPr/>
            <p:nvPr/>
          </p:nvGrpSpPr>
          <p:grpSpPr>
            <a:xfrm>
              <a:off x="2963160" y="5415120"/>
              <a:ext cx="504000" cy="593280"/>
              <a:chOff x="2963160" y="5415120"/>
              <a:chExt cx="504000" cy="593280"/>
            </a:xfrm>
          </p:grpSpPr>
          <p:sp>
            <p:nvSpPr>
              <p:cNvPr id="769" name="AutoShape 392"/>
              <p:cNvSpPr/>
              <p:nvPr/>
            </p:nvSpPr>
            <p:spPr>
              <a:xfrm rot="19359600">
                <a:off x="3034800" y="5487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Text Box 393"/>
              <p:cNvSpPr/>
              <p:nvPr/>
            </p:nvSpPr>
            <p:spPr>
              <a:xfrm>
                <a:off x="3004560" y="5487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AutoShape 395"/>
            <p:cNvSpPr/>
            <p:nvPr/>
          </p:nvSpPr>
          <p:spPr>
            <a:xfrm>
              <a:off x="3036960" y="5487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397"/>
          <p:cNvGrpSpPr/>
          <p:nvPr/>
        </p:nvGrpSpPr>
        <p:grpSpPr>
          <a:xfrm>
            <a:off x="6563880" y="5415120"/>
            <a:ext cx="504360" cy="593280"/>
            <a:chOff x="6563880" y="5415120"/>
            <a:chExt cx="504360" cy="593280"/>
          </a:xfrm>
        </p:grpSpPr>
        <p:sp>
          <p:nvSpPr>
            <p:cNvPr id="773" name="AutoShape 398"/>
            <p:cNvSpPr/>
            <p:nvPr/>
          </p:nvSpPr>
          <p:spPr>
            <a:xfrm rot="19359600">
              <a:off x="6635520" y="54874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399"/>
            <p:cNvSpPr/>
            <p:nvPr/>
          </p:nvSpPr>
          <p:spPr>
            <a:xfrm>
              <a:off x="6605280" y="5487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400"/>
          <p:cNvGrpSpPr/>
          <p:nvPr/>
        </p:nvGrpSpPr>
        <p:grpSpPr>
          <a:xfrm>
            <a:off x="6563880" y="5016960"/>
            <a:ext cx="504360" cy="593280"/>
            <a:chOff x="6563880" y="5016960"/>
            <a:chExt cx="504360" cy="593280"/>
          </a:xfrm>
        </p:grpSpPr>
        <p:sp>
          <p:nvSpPr>
            <p:cNvPr id="776" name="AutoShape 401"/>
            <p:cNvSpPr/>
            <p:nvPr/>
          </p:nvSpPr>
          <p:spPr>
            <a:xfrm rot="19359600">
              <a:off x="6635520" y="508932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402"/>
            <p:cNvSpPr/>
            <p:nvPr/>
          </p:nvSpPr>
          <p:spPr>
            <a:xfrm>
              <a:off x="6605280" y="5089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403"/>
          <p:cNvGrpSpPr/>
          <p:nvPr/>
        </p:nvGrpSpPr>
        <p:grpSpPr>
          <a:xfrm>
            <a:off x="4566600" y="5808960"/>
            <a:ext cx="504000" cy="593280"/>
            <a:chOff x="4566600" y="5808960"/>
            <a:chExt cx="504000" cy="593280"/>
          </a:xfrm>
        </p:grpSpPr>
        <p:sp>
          <p:nvSpPr>
            <p:cNvPr id="779" name="AutoShape 404"/>
            <p:cNvSpPr/>
            <p:nvPr/>
          </p:nvSpPr>
          <p:spPr>
            <a:xfrm rot="19359600">
              <a:off x="4638240" y="5881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405"/>
            <p:cNvSpPr/>
            <p:nvPr/>
          </p:nvSpPr>
          <p:spPr>
            <a:xfrm>
              <a:off x="460800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406"/>
          <p:cNvGrpSpPr/>
          <p:nvPr/>
        </p:nvGrpSpPr>
        <p:grpSpPr>
          <a:xfrm>
            <a:off x="6582960" y="5808960"/>
            <a:ext cx="504360" cy="593280"/>
            <a:chOff x="6582960" y="5808960"/>
            <a:chExt cx="504360" cy="593280"/>
          </a:xfrm>
        </p:grpSpPr>
        <p:sp>
          <p:nvSpPr>
            <p:cNvPr id="782" name="AutoShape 407"/>
            <p:cNvSpPr/>
            <p:nvPr/>
          </p:nvSpPr>
          <p:spPr>
            <a:xfrm rot="19359600">
              <a:off x="6654600" y="588132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408"/>
            <p:cNvSpPr/>
            <p:nvPr/>
          </p:nvSpPr>
          <p:spPr>
            <a:xfrm>
              <a:off x="662436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409"/>
          <p:cNvGrpSpPr/>
          <p:nvPr/>
        </p:nvGrpSpPr>
        <p:grpSpPr>
          <a:xfrm>
            <a:off x="2982240" y="5808960"/>
            <a:ext cx="504000" cy="593280"/>
            <a:chOff x="2982240" y="5808960"/>
            <a:chExt cx="504000" cy="593280"/>
          </a:xfrm>
        </p:grpSpPr>
        <p:sp>
          <p:nvSpPr>
            <p:cNvPr id="785" name="AutoShape 410"/>
            <p:cNvSpPr/>
            <p:nvPr/>
          </p:nvSpPr>
          <p:spPr>
            <a:xfrm rot="19359600">
              <a:off x="3053880" y="5881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411"/>
            <p:cNvSpPr/>
            <p:nvPr/>
          </p:nvSpPr>
          <p:spPr>
            <a:xfrm>
              <a:off x="302364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412"/>
          <p:cNvGrpSpPr/>
          <p:nvPr/>
        </p:nvGrpSpPr>
        <p:grpSpPr>
          <a:xfrm>
            <a:off x="2963160" y="5016960"/>
            <a:ext cx="504000" cy="593280"/>
            <a:chOff x="2963160" y="5016960"/>
            <a:chExt cx="504000" cy="593280"/>
          </a:xfrm>
        </p:grpSpPr>
        <p:sp>
          <p:nvSpPr>
            <p:cNvPr id="788" name="AutoShape 413"/>
            <p:cNvSpPr/>
            <p:nvPr/>
          </p:nvSpPr>
          <p:spPr>
            <a:xfrm rot="19359600">
              <a:off x="3034800" y="5089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414"/>
            <p:cNvSpPr/>
            <p:nvPr/>
          </p:nvSpPr>
          <p:spPr>
            <a:xfrm>
              <a:off x="3004560" y="5089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415"/>
          <p:cNvGrpSpPr/>
          <p:nvPr/>
        </p:nvGrpSpPr>
        <p:grpSpPr>
          <a:xfrm>
            <a:off x="2963160" y="4623120"/>
            <a:ext cx="504000" cy="593280"/>
            <a:chOff x="2963160" y="4623120"/>
            <a:chExt cx="504000" cy="593280"/>
          </a:xfrm>
        </p:grpSpPr>
        <p:sp>
          <p:nvSpPr>
            <p:cNvPr id="791" name="AutoShape 416"/>
            <p:cNvSpPr/>
            <p:nvPr/>
          </p:nvSpPr>
          <p:spPr>
            <a:xfrm rot="19359600">
              <a:off x="3034800" y="46954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417"/>
            <p:cNvSpPr/>
            <p:nvPr/>
          </p:nvSpPr>
          <p:spPr>
            <a:xfrm>
              <a:off x="3004560" y="4695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423"/>
          <p:cNvGrpSpPr/>
          <p:nvPr/>
        </p:nvGrpSpPr>
        <p:grpSpPr>
          <a:xfrm>
            <a:off x="4547520" y="5016960"/>
            <a:ext cx="504000" cy="593280"/>
            <a:chOff x="4547520" y="5016960"/>
            <a:chExt cx="504000" cy="593280"/>
          </a:xfrm>
        </p:grpSpPr>
        <p:grpSp>
          <p:nvGrpSpPr>
            <p:cNvPr id="794" name="Group 424"/>
            <p:cNvGrpSpPr/>
            <p:nvPr/>
          </p:nvGrpSpPr>
          <p:grpSpPr>
            <a:xfrm>
              <a:off x="4547520" y="5016960"/>
              <a:ext cx="504000" cy="593280"/>
              <a:chOff x="4547520" y="5016960"/>
              <a:chExt cx="504000" cy="593280"/>
            </a:xfrm>
          </p:grpSpPr>
          <p:sp>
            <p:nvSpPr>
              <p:cNvPr id="795" name="AutoShape 425"/>
              <p:cNvSpPr/>
              <p:nvPr/>
            </p:nvSpPr>
            <p:spPr>
              <a:xfrm rot="19359600">
                <a:off x="4619160" y="508932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Text Box 426"/>
              <p:cNvSpPr/>
              <p:nvPr/>
            </p:nvSpPr>
            <p:spPr>
              <a:xfrm>
                <a:off x="4588920" y="508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7" name="AutoShape 427"/>
            <p:cNvSpPr/>
            <p:nvPr/>
          </p:nvSpPr>
          <p:spPr>
            <a:xfrm>
              <a:off x="4621320" y="508968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428"/>
          <p:cNvGrpSpPr/>
          <p:nvPr/>
        </p:nvGrpSpPr>
        <p:grpSpPr>
          <a:xfrm>
            <a:off x="4547520" y="4623120"/>
            <a:ext cx="504000" cy="593280"/>
            <a:chOff x="4547520" y="4623120"/>
            <a:chExt cx="504000" cy="593280"/>
          </a:xfrm>
        </p:grpSpPr>
        <p:grpSp>
          <p:nvGrpSpPr>
            <p:cNvPr id="799" name="Group 429"/>
            <p:cNvGrpSpPr/>
            <p:nvPr/>
          </p:nvGrpSpPr>
          <p:grpSpPr>
            <a:xfrm>
              <a:off x="4547520" y="4623120"/>
              <a:ext cx="504000" cy="593280"/>
              <a:chOff x="4547520" y="4623120"/>
              <a:chExt cx="504000" cy="593280"/>
            </a:xfrm>
          </p:grpSpPr>
          <p:sp>
            <p:nvSpPr>
              <p:cNvPr id="800" name="AutoShape 430"/>
              <p:cNvSpPr/>
              <p:nvPr/>
            </p:nvSpPr>
            <p:spPr>
              <a:xfrm rot="19359600">
                <a:off x="4619160" y="4695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Text Box 431"/>
              <p:cNvSpPr/>
              <p:nvPr/>
            </p:nvSpPr>
            <p:spPr>
              <a:xfrm>
                <a:off x="4588920" y="4695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AutoShape 432"/>
            <p:cNvSpPr/>
            <p:nvPr/>
          </p:nvSpPr>
          <p:spPr>
            <a:xfrm>
              <a:off x="4621320" y="4695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Group 443"/>
          <p:cNvGrpSpPr/>
          <p:nvPr/>
        </p:nvGrpSpPr>
        <p:grpSpPr>
          <a:xfrm>
            <a:off x="4547520" y="5415120"/>
            <a:ext cx="504000" cy="593280"/>
            <a:chOff x="4547520" y="5415120"/>
            <a:chExt cx="504000" cy="593280"/>
          </a:xfrm>
        </p:grpSpPr>
        <p:grpSp>
          <p:nvGrpSpPr>
            <p:cNvPr id="804" name="Group 444"/>
            <p:cNvGrpSpPr/>
            <p:nvPr/>
          </p:nvGrpSpPr>
          <p:grpSpPr>
            <a:xfrm>
              <a:off x="4547520" y="5415120"/>
              <a:ext cx="504000" cy="593280"/>
              <a:chOff x="4547520" y="5415120"/>
              <a:chExt cx="504000" cy="593280"/>
            </a:xfrm>
          </p:grpSpPr>
          <p:sp>
            <p:nvSpPr>
              <p:cNvPr id="805" name="AutoShape 445"/>
              <p:cNvSpPr/>
              <p:nvPr/>
            </p:nvSpPr>
            <p:spPr>
              <a:xfrm rot="19359600">
                <a:off x="4619160" y="5487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Text Box 446"/>
              <p:cNvSpPr/>
              <p:nvPr/>
            </p:nvSpPr>
            <p:spPr>
              <a:xfrm>
                <a:off x="4588920" y="5487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AutoShape 447"/>
            <p:cNvSpPr/>
            <p:nvPr/>
          </p:nvSpPr>
          <p:spPr>
            <a:xfrm>
              <a:off x="4621320" y="5487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Oval 448"/>
          <p:cNvSpPr/>
          <p:nvPr/>
        </p:nvSpPr>
        <p:spPr>
          <a:xfrm>
            <a:off x="6276960" y="4532400"/>
            <a:ext cx="1079640" cy="194472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449" descr="ICN_073C"/>
          <p:cNvPicPr/>
          <p:nvPr/>
        </p:nvPicPr>
        <p:blipFill>
          <a:blip r:embed="rId1"/>
          <a:stretch/>
        </p:blipFill>
        <p:spPr>
          <a:xfrm>
            <a:off x="6348240" y="17240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1467-083F-4F7A-B42C-C3167CBD3DAA}" type="slidenum">
              <a:t>36</a:t>
            </a:fld>
          </a:p>
        </p:txBody>
      </p:sp>
    </p:spTree>
  </p:cSld>
  <p:transition>
    <p:fade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8403 -0.01481 0.16823 -0.0294 0.22083 -0.00139 C 0.27344 0.02662 0.29479 0.09769 0.31615 0.16875 E">
                                      <p:cBhvr>
                                        <p:cTn id="623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536840" y="241200"/>
            <a:ext cx="10261440" cy="633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ächstes M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5165640" y="2327400"/>
            <a:ext cx="3251160" cy="27288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4"/>
          <p:cNvSpPr/>
          <p:nvPr/>
        </p:nvSpPr>
        <p:spPr>
          <a:xfrm>
            <a:off x="5164200" y="2338560"/>
            <a:ext cx="32526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23040" tIns="26640" bIns="2664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5165640" y="2584440"/>
            <a:ext cx="3257640" cy="401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6" descr=""/>
          <p:cNvPicPr/>
          <p:nvPr/>
        </p:nvPicPr>
        <p:blipFill>
          <a:blip r:embed="rId1"/>
          <a:stretch/>
        </p:blipFill>
        <p:spPr>
          <a:xfrm>
            <a:off x="5295960" y="2746440"/>
            <a:ext cx="3009960" cy="3116160"/>
          </a:xfrm>
          <a:prstGeom prst="rect">
            <a:avLst/>
          </a:prstGeom>
          <a:ln w="0">
            <a:noFill/>
          </a:ln>
        </p:spPr>
      </p:pic>
      <p:sp>
        <p:nvSpPr>
          <p:cNvPr id="816" name="Rectangle 7"/>
          <p:cNvSpPr/>
          <p:nvPr/>
        </p:nvSpPr>
        <p:spPr>
          <a:xfrm>
            <a:off x="5375160" y="4064040"/>
            <a:ext cx="2287800" cy="20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8"/>
          <p:cNvSpPr/>
          <p:nvPr/>
        </p:nvSpPr>
        <p:spPr>
          <a:xfrm>
            <a:off x="5981760" y="5845320"/>
            <a:ext cx="124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9"/>
          <p:cNvSpPr/>
          <p:nvPr/>
        </p:nvSpPr>
        <p:spPr>
          <a:xfrm>
            <a:off x="5375160" y="3165480"/>
            <a:ext cx="2894040" cy="88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0"/>
          <p:cNvSpPr/>
          <p:nvPr/>
        </p:nvSpPr>
        <p:spPr>
          <a:xfrm>
            <a:off x="5730840" y="3197160"/>
            <a:ext cx="11779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13" descr=""/>
          <p:cNvPicPr/>
          <p:nvPr/>
        </p:nvPicPr>
        <p:blipFill>
          <a:blip r:embed="rId2"/>
          <a:srcRect l="33303" t="43631" r="21726" b="32720"/>
          <a:stretch/>
        </p:blipFill>
        <p:spPr>
          <a:xfrm>
            <a:off x="6299280" y="4089240"/>
            <a:ext cx="135396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1" name=""/>
          <p:cNvGraphicFramePr/>
          <p:nvPr/>
        </p:nvGraphicFramePr>
        <p:xfrm>
          <a:off x="468360" y="2060640"/>
          <a:ext cx="4268520" cy="4524480"/>
        </p:xfrm>
        <a:graphic>
          <a:graphicData uri="http://schemas.openxmlformats.org/drawingml/2006/table">
            <a:tbl>
              <a:tblPr/>
              <a:tblGrid>
                <a:gridCol w="4268520"/>
              </a:tblGrid>
              <a:tr h="32400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Regelsprach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- Syntax und Semanti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22" name="Rectangle 64"/>
          <p:cNvSpPr/>
          <p:nvPr/>
        </p:nvSpPr>
        <p:spPr>
          <a:xfrm>
            <a:off x="468360" y="3573360"/>
            <a:ext cx="4294080" cy="30348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F972-CEB4-4B1F-B73C-CED921ED2C68}" type="slidenum">
              <a:t>37</a:t>
            </a:fld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s is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67616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tymologische Herkunft: griechisch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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deutet „Wort, Rede, Lehre“ (s.a. Faust I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84360" y="2637000"/>
            <a:ext cx="7772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 als Argumenta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84360" y="537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 für diese Vorlesung:</a:t>
            </a:r>
            <a:br>
              <a:rPr sz="2400"/>
            </a:b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3"/>
          <p:cNvGrpSpPr/>
          <p:nvPr/>
        </p:nvGrpSpPr>
        <p:grpSpPr>
          <a:xfrm>
            <a:off x="755640" y="3213000"/>
            <a:ext cx="3887640" cy="1079640"/>
            <a:chOff x="755640" y="3213000"/>
            <a:chExt cx="3887640" cy="1079640"/>
          </a:xfrm>
        </p:grpSpPr>
        <p:pic>
          <p:nvPicPr>
            <p:cNvPr id="115" name="Picture 5" descr="Parallels Picture 1"/>
            <p:cNvPicPr/>
            <p:nvPr/>
          </p:nvPicPr>
          <p:blipFill>
            <a:blip r:embed="rId1"/>
            <a:srcRect l="22190" t="20604" r="69545" b="61759"/>
            <a:stretch/>
          </p:blipFill>
          <p:spPr>
            <a:xfrm>
              <a:off x="755640" y="3357720"/>
              <a:ext cx="5936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8"/>
            <p:cNvSpPr/>
            <p:nvPr/>
          </p:nvSpPr>
          <p:spPr>
            <a:xfrm>
              <a:off x="1042920" y="3213000"/>
              <a:ext cx="36003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Menschen sind sterblich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okrates ist ein Mensch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so ist Sokrates sterblich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1979640" y="4221000"/>
            <a:ext cx="5616720" cy="936720"/>
            <a:chOff x="1979640" y="4221000"/>
            <a:chExt cx="5616720" cy="936720"/>
          </a:xfrm>
        </p:grpSpPr>
        <p:sp>
          <p:nvSpPr>
            <p:cNvPr id="118" name="Rectangle 9"/>
            <p:cNvSpPr/>
            <p:nvPr/>
          </p:nvSpPr>
          <p:spPr>
            <a:xfrm>
              <a:off x="2843280" y="4221000"/>
              <a:ext cx="47530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Pinguine sind schwarz-weiß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Einige alte TV-Shows sind schwarz-weiß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inige Pinguine sind alte TV-Shows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10" descr="penguins"/>
            <p:cNvPicPr/>
            <p:nvPr/>
          </p:nvPicPr>
          <p:blipFill>
            <a:blip r:embed="rId2"/>
            <a:srcRect l="34112" t="48552" r="36150" b="34137"/>
            <a:stretch/>
          </p:blipFill>
          <p:spPr>
            <a:xfrm>
              <a:off x="1979640" y="4365720"/>
              <a:ext cx="12240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Text Box 11"/>
          <p:cNvSpPr/>
          <p:nvPr/>
        </p:nvSpPr>
        <p:spPr>
          <a:xfrm>
            <a:off x="4599000" y="393372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0000"/>
                </a:solidFill>
                <a:latin typeface="Arial"/>
              </a:rPr>
              <a:t>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4074480" y="299736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6600"/>
                </a:solidFill>
                <a:latin typeface="Arial"/>
              </a:rPr>
              <a:t>✔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5"/>
          <p:cNvSpPr txBox="1"/>
          <p:nvPr/>
        </p:nvSpPr>
        <p:spPr>
          <a:xfrm>
            <a:off x="5508720" y="3357720"/>
            <a:ext cx="27144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Warum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0196-9DD7-4702-BE69-69F39B06A0F1}" type="slidenum">
              <a:t>4</a:t>
            </a:fld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rum formal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sierbarkeit! Ein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Rechenmaschine“ für Logik!!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. W. Leibniz (1646-171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ED06184"/>
          <p:cNvPicPr/>
          <p:nvPr/>
        </p:nvPicPr>
        <p:blipFill>
          <a:blip r:embed="rId1"/>
          <a:srcRect l="0" t="0" r="8824" b="770"/>
          <a:stretch/>
        </p:blipFill>
        <p:spPr>
          <a:xfrm>
            <a:off x="6156360" y="3284640"/>
            <a:ext cx="2987640" cy="324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arallels Picture"/>
          <p:cNvPicPr/>
          <p:nvPr/>
        </p:nvPicPr>
        <p:blipFill>
          <a:blip r:embed="rId2"/>
          <a:srcRect l="50003" t="22365" r="2746" b="48949"/>
          <a:stretch/>
        </p:blipFill>
        <p:spPr>
          <a:xfrm>
            <a:off x="5508720" y="907920"/>
            <a:ext cx="2160360" cy="194328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1"/>
          <p:cNvGrpSpPr/>
          <p:nvPr/>
        </p:nvGrpSpPr>
        <p:grpSpPr>
          <a:xfrm>
            <a:off x="1042920" y="2924280"/>
            <a:ext cx="6726240" cy="3443040"/>
            <a:chOff x="1042920" y="2924280"/>
            <a:chExt cx="6726240" cy="3443040"/>
          </a:xfrm>
        </p:grpSpPr>
        <p:sp>
          <p:nvSpPr>
            <p:cNvPr id="128" name="AutoShape 10"/>
            <p:cNvSpPr/>
            <p:nvPr/>
          </p:nvSpPr>
          <p:spPr>
            <a:xfrm>
              <a:off x="1042920" y="2924280"/>
              <a:ext cx="6721560" cy="34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12" descr=""/>
            <p:cNvPicPr/>
            <p:nvPr/>
          </p:nvPicPr>
          <p:blipFill>
            <a:blip r:embed="rId3"/>
            <a:stretch/>
          </p:blipFill>
          <p:spPr>
            <a:xfrm>
              <a:off x="1042920" y="2924280"/>
              <a:ext cx="6726240" cy="34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Rectangle 5"/>
          <p:cNvSpPr/>
          <p:nvPr/>
        </p:nvSpPr>
        <p:spPr>
          <a:xfrm>
            <a:off x="2627280" y="602136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4C65F-A3B5-485A-AFE0-4A02C2A31069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Grundbegriffe der 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1547640" y="1989000"/>
            <a:ext cx="115128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3419640" y="1700280"/>
            <a:ext cx="2592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terpreta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5796000" y="2852640"/>
            <a:ext cx="1079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er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2340000" y="3213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Proposi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2268360" y="4437000"/>
            <a:ext cx="179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dividu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6227640" y="4581360"/>
            <a:ext cx="15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emantik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WordArt 10"/>
          <p:cNvSpPr txBox="1"/>
          <p:nvPr/>
        </p:nvSpPr>
        <p:spPr>
          <a:xfrm>
            <a:off x="4643280" y="479736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yntax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WordArt 11"/>
          <p:cNvSpPr txBox="1"/>
          <p:nvPr/>
        </p:nvSpPr>
        <p:spPr>
          <a:xfrm>
            <a:off x="4788000" y="3789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to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6300720" y="3573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rm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13"/>
          <p:cNvSpPr txBox="1"/>
          <p:nvPr/>
        </p:nvSpPr>
        <p:spPr>
          <a:xfrm>
            <a:off x="4284720" y="306864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atz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WordArt 15"/>
          <p:cNvSpPr txBox="1"/>
          <p:nvPr/>
        </p:nvSpPr>
        <p:spPr>
          <a:xfrm>
            <a:off x="1116000" y="3645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omän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5364000" y="220500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rfüll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18"/>
          <p:cNvSpPr txBox="1"/>
          <p:nvPr/>
        </p:nvSpPr>
        <p:spPr>
          <a:xfrm>
            <a:off x="5580000" y="5445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autolog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19"/>
          <p:cNvSpPr txBox="1"/>
          <p:nvPr/>
        </p:nvSpPr>
        <p:spPr>
          <a:xfrm>
            <a:off x="1042920" y="5229360"/>
            <a:ext cx="29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iskursunivers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21"/>
          <p:cNvSpPr txBox="1"/>
          <p:nvPr/>
        </p:nvSpPr>
        <p:spPr>
          <a:xfrm>
            <a:off x="3059280" y="2492280"/>
            <a:ext cx="252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lgerung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23"/>
          <p:cNvSpPr txBox="1"/>
          <p:nvPr/>
        </p:nvSpPr>
        <p:spPr>
          <a:xfrm>
            <a:off x="324000" y="414972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ntscheid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24"/>
          <p:cNvSpPr txBox="1"/>
          <p:nvPr/>
        </p:nvSpPr>
        <p:spPr>
          <a:xfrm>
            <a:off x="395280" y="2565360"/>
            <a:ext cx="237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bleitungsreg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25"/>
          <p:cNvSpPr txBox="1"/>
          <p:nvPr/>
        </p:nvSpPr>
        <p:spPr>
          <a:xfrm>
            <a:off x="5003640" y="422100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eduktionskalkü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26"/>
          <p:cNvSpPr txBox="1"/>
          <p:nvPr/>
        </p:nvSpPr>
        <p:spPr>
          <a:xfrm>
            <a:off x="3492360" y="5877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Widerspruch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27"/>
          <p:cNvSpPr txBox="1"/>
          <p:nvPr/>
        </p:nvSpPr>
        <p:spPr>
          <a:xfrm>
            <a:off x="900000" y="5805360"/>
            <a:ext cx="237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theor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E3F9-3DB2-495A-83EE-A85FABF8F5E3}" type="slidenum">
              <a:t>6</a:t>
            </a:fld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500"/>
                            </p:stCondLst>
                            <p:childTnLst>
                              <p:par>
                                <p:cTn id="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5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Menschen sind sterblich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krates ist ein Mensch.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ist Sokrates sterb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hließen wi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a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reibende Grundelemente der Logik nennen wir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ät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CF007-7616-4AB7-AEF2-F2C528B2105E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ätze und Schlussfolgerung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64800" y="17143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Logik besteht aus einer Menge von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sammen mit einer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ntailment relation). Letztere liefert die Semantik (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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m Zeichen gehöre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116000" y="3429000"/>
            <a:ext cx="7201080" cy="302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3780000" y="5156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419640" y="393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4427640" y="4365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4572000" y="3789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1763640" y="515628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2124000" y="41482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6084720" y="41482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3"/>
          <p:cNvSpPr/>
          <p:nvPr/>
        </p:nvSpPr>
        <p:spPr>
          <a:xfrm>
            <a:off x="6084720" y="5084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4"/>
          <p:cNvSpPr/>
          <p:nvPr/>
        </p:nvSpPr>
        <p:spPr>
          <a:xfrm>
            <a:off x="3203640" y="5084640"/>
            <a:ext cx="57636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5"/>
          <p:cNvSpPr/>
          <p:nvPr/>
        </p:nvSpPr>
        <p:spPr>
          <a:xfrm>
            <a:off x="5580000" y="4005360"/>
            <a:ext cx="57636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317400" y="52038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5638320" y="41655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2E60-F410-4CCA-8AEF-AB59B9EFC192}" type="slidenum">
              <a:t>8</a:t>
            </a:fld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Folgerung und Äquivalenz von Sät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43000" y="177588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:=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mit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de-DE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bei bedeutet f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Meng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 Sätzen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n Satz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36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en Sätz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olgt der Satz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oder a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logische Konsequenz au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lt für zwei Sätz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ss sowohl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ls auch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ind diese Sätz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logisch) äquival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man schreibt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373440" y="5805360"/>
            <a:ext cx="351360" cy="504720"/>
            <a:chOff x="6373440" y="5805360"/>
            <a:chExt cx="351360" cy="504720"/>
          </a:xfrm>
        </p:grpSpPr>
        <p:sp>
          <p:nvSpPr>
            <p:cNvPr id="172" name=""/>
            <p:cNvSpPr/>
            <p:nvPr/>
          </p:nvSpPr>
          <p:spPr>
            <a:xfrm>
              <a:off x="6373440" y="5865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73440" y="5805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D72A-6ECC-47F6-9244-5577703F2AC2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57:17Z</dcterms:created>
  <dc:creator>York Sure</dc:creator>
  <dc:description/>
  <dc:language>en-US</dc:language>
  <cp:lastModifiedBy> Pascal Hitzler</cp:lastModifiedBy>
  <cp:lastPrinted>2008-06-06T08:13:02Z</cp:lastPrinted>
  <dcterms:modified xsi:type="dcterms:W3CDTF">2008-11-18T19:23:31Z</dcterms:modified>
  <cp:revision>291</cp:revision>
  <dc:subject/>
  <dc:title>Kein Folientitel</dc:title>
</cp:coreProperties>
</file>